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7C3C-06F8-4DEB-9451-4739B48A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EE52-F99E-4A6C-8405-D58D02D5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60BA-B0C9-45FD-A824-61A9CBF2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30FA-E3AE-4737-A24B-2B6CD9D0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19EB9-F873-44A4-85F4-8D8D672B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60E97-82DC-4E9C-AD9F-0F4B50AC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00ECA-0317-4DA8-9028-31AEAE47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F050E-36FD-44BD-B128-D0038D26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8EA34-706D-48CA-9E1B-374EAA38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27DDC-E0FC-497F-BF21-4E866639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52C36-662E-4B66-93CE-8D673A4C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0D6A-D7CF-4196-B8D0-57838CA8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1364F-C0A5-4948-9B9A-F3EF4BAC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CD929-83F1-4133-8B60-81BC0799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A2CF9-5876-4462-A04D-BD9671C4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EC2AF-3300-4C47-86A9-E6B932667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3A079-EFEB-4AE8-9F7E-F59289F50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4EBD-E118-4A69-8877-2BFB262E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5190-C1B2-47FC-B370-72691DB5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84C4-0810-428D-9C9C-EE6CE5E6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E018-8909-4F8A-9486-207EBA20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5EDC-F9AF-4976-9087-0DD0EF2B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602E-CA67-4887-8230-EFDB7B24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68DA-DC45-4F37-BAC3-C61FF483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28C2-B0DE-44EA-87BB-A510E243178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6C4B-EFCE-44DE-A8A6-B435976D5227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Tahoma"/>
              </a:rPr>
              <a:t>ΠΛΑΙΣΙΟ ΔΙΕΞΑΓΩΓΗΣ ΕΠΙΚΟΙΝΩΝΙΑ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852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ΙΩΣΗΦ ΦΡΑΓΚΟΥΛΗΣ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ΚΑΘΗΓΗΤΗ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5075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9933"/>
                </a:solidFill>
                <a:latin typeface="Comic Sans MS"/>
              </a:rPr>
              <a:t>ΙΚΑΝΟΤΗΤΕΣ ΠΟΥ ΧΡΕΙΑΖΟΝΤΑΙ ΣΤΗΝ ΕΠΙΚΟΙΝΩΝΙΑ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Εδραίωση της αυτοεκτίμηση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Έκφραση συναισθημάτω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Αποδοχή και κατανόηση του άλλο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Εξοικείωση με τη «γλώσσα του σώματος» και τα επίπεδα μηνυμάτω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Ενεργητική ανταλλαγή μηνυμάτω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Η εναρμόνιση μηνυμάτων – σκέψεων-συναισθημάτων -πράξεω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9933"/>
                </a:solidFill>
                <a:latin typeface="Comic Sans MS"/>
              </a:rPr>
              <a:t>Χαρακτηριστικά γνωρίσματα ενός ανθρώπου με αυτοεκτίμηση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1530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Αναγνωρίζει τις ελλείψεις και τις αδυναμίες του, προσπαθεί να τις αντιμετωπίσει χωρίς να έχει αρνητικά συναισθήματα γι’ αυτέ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Εκφράζει με θάρρος τις ανάγκες και τις προσδοκίες το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Υπερασπίζεται το δίκιο του χωρίς να προσβάλλει το δίκιο των άλλω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Είναι ειλικρινής με τα συναισθήματά του, ικανός να τα εκφράσει, συνεπής σε σχέση με αυτά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Είναι ανοικτός σε νέες καταστάσει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Αποκτά συνεχώς νέες πληροφορίες, γνώσεις, ικανότητε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Comic Sans MS"/>
              </a:rPr>
              <a:t>Κατανοεί τους άλλους, συνυπάρχει με αυτούς χωρίς να ασκεί αναίτια κριτική, χωρίς να τους εκμεταλλεύεται ή να τους μειώνει με τη συμπεριφορά του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9933"/>
                </a:solidFill>
                <a:latin typeface="Comic Sans MS"/>
              </a:rPr>
              <a:t>Η βασικότερη δεξιότητα στην επικοινωνία:</a:t>
            </a:r>
            <a:br>
              <a:rPr sz="3600"/>
            </a:br>
            <a:r>
              <a:rPr b="1" lang="el-GR" sz="3600" spc="-1" strike="noStrike">
                <a:solidFill>
                  <a:srgbClr val="ff9933"/>
                </a:solidFill>
                <a:latin typeface="Comic Sans MS"/>
              </a:rPr>
              <a:t>Η ΕΝΕΡΓΗΤΙΚΗ ΑΚΡΟΑΣΗ</a:t>
            </a:r>
            <a:r>
              <a:rPr b="0" lang="el-GR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Η δεξιότητα της ενεργητικής ακρόασης είναι συμπεριφορά την οποία χρησιμοποιούμε για να δείξουμε ότι </a:t>
            </a:r>
            <a:r>
              <a:rPr b="1" lang="el-GR" sz="3600" spc="-1" strike="noStrike" u="sng">
                <a:solidFill>
                  <a:srgbClr val="ffff00"/>
                </a:solidFill>
                <a:uFillTx/>
                <a:latin typeface="Comic Sans MS"/>
              </a:rPr>
              <a:t>προσέχουμε</a:t>
            </a: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 το συνομιλητή μας και όχι ότι ακούμε παθητικά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9933"/>
                </a:solidFill>
                <a:latin typeface="Comic Sans MS"/>
              </a:rPr>
              <a:t>Η βασικότερη δεξιότητα στην επικοινωνία:</a:t>
            </a:r>
            <a:br>
              <a:rPr sz="3600"/>
            </a:br>
            <a:r>
              <a:rPr b="1" lang="el-GR" sz="3600" spc="-1" strike="noStrike">
                <a:solidFill>
                  <a:srgbClr val="ff9933"/>
                </a:solidFill>
                <a:latin typeface="Comic Sans MS"/>
              </a:rPr>
              <a:t>Η ΕΝΕΡΓΗΤΙΚΗ  ΑΚΡΟΑΣΗ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Προσπαθούμε να συνθέσουμε τα λεκτικά και μη λεκτικά μηνύματα του συνομιλητή μας προκειμένου να καταλάβουμε αυτά που θέλει να μεταφέρει: δηλαδή </a:t>
            </a:r>
            <a:r>
              <a:rPr b="1" i="1" lang="el-GR" sz="3600" spc="-1" strike="noStrike" u="sng">
                <a:solidFill>
                  <a:srgbClr val="ffff00"/>
                </a:solidFill>
                <a:uFillTx/>
                <a:latin typeface="Comic Sans MS"/>
              </a:rPr>
              <a:t>τι ακριβώς εννοεί και πώς αισθάνεται</a:t>
            </a:r>
            <a:r>
              <a:rPr b="1" lang="el-GR" sz="3200" spc="-1" strike="noStrike">
                <a:solidFill>
                  <a:srgbClr val="ffff00"/>
                </a:solidFill>
                <a:latin typeface="Comic Sans MS"/>
              </a:rPr>
              <a:t>.</a:t>
            </a:r>
            <a:r>
              <a:rPr b="1" lang="el-GR" sz="3600" spc="-1" strike="noStrike">
                <a:solidFill>
                  <a:srgbClr val="ff9933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9933"/>
                </a:solidFill>
                <a:latin typeface="Comic Sans MS"/>
              </a:rPr>
              <a:t>Χαρακτηριστικά της ΕΝΕΡΓΗΤΙΚΗΣ  ΑΚΡΟΑΣΗ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 u="sng">
                <a:solidFill>
                  <a:srgbClr val="ffff00"/>
                </a:solidFill>
                <a:uFillTx/>
                <a:latin typeface="Comic Sans MS"/>
              </a:rPr>
              <a:t>Οπτική επαφή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Comic Sans MS"/>
              </a:rPr>
              <a:t>Κοιτάζουμε το συνομιλητή μας στα μάτι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 u="sng">
                <a:solidFill>
                  <a:srgbClr val="ffff00"/>
                </a:solidFill>
                <a:uFillTx/>
                <a:latin typeface="Comic Sans MS"/>
              </a:rPr>
              <a:t>Σωματική γλώσσα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Comic Sans MS"/>
              </a:rPr>
              <a:t>Στάση του σώματος σε σχέση με το συνομιλητή μα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Comic Sans MS"/>
              </a:rPr>
              <a:t>Κινήσεις και χειρονομίε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Comic Sans MS"/>
              </a:rPr>
              <a:t>Εκφράσεις του προσώπο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Comic Sans MS"/>
              </a:rPr>
              <a:t>Νεύματ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Comic Sans MS"/>
              </a:rPr>
              <a:t>Κίνηση και τοποθέτηση του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800" spc="-1" strike="noStrike">
                <a:solidFill>
                  <a:srgbClr val="ffff00"/>
                </a:solidFill>
                <a:latin typeface="Comic Sans MS"/>
              </a:rPr>
              <a:t>σώματος στο χώρο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9933"/>
                </a:solidFill>
                <a:latin typeface="Comic Sans MS"/>
              </a:rPr>
              <a:t>ΕΜΠΟΔΙΑ ΕΠΙΚΟΙΝΩΝΙΑΣ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Οι εντολές ή διαταγέ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Οι απειλέ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Παραινέσεις – ηθικολογίε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Διδασκαλί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Κριτική, κατηγορί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Χαρακτηρισμοί, ταπεινώσει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Ερμηνείες, διαγνώσει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omic Sans MS"/>
              </a:rPr>
              <a:t>Ανάκρισ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8:34:30Z</dcterms:created>
  <dc:creator>vzoupas</dc:creator>
  <dc:description/>
  <dc:language>en-US</dc:language>
  <cp:lastModifiedBy>Γεώργιος Φραγκούλης</cp:lastModifiedBy>
  <dcterms:modified xsi:type="dcterms:W3CDTF">2022-03-27T07:33:09Z</dcterms:modified>
  <cp:revision>6</cp:revision>
  <dc:subject/>
  <dc:title>ΙΚΑΝΟΤΗΤΕΣ ΠΟΥ ΧΡΕΙΑΖΟΝΤΑΙ ΣΤΗΝ ΕΠΙΚΟΙΝΩΝΙΑ</dc:title>
</cp:coreProperties>
</file>