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2A9-1724-4AB9-8EBF-D2C9B151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8D0-1472-406F-937B-9B2E36F9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EDA-FC2E-4843-9506-1817596A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53E-4720-4EF4-8CD5-4BA29B78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8734-604A-4ECA-9CB8-4CA3061D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CE7A-7DA6-421D-8EB3-C1BDB7D0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ABBE-1EBA-4AD5-AEE3-A65D8CD7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DC13-FE89-418E-B4BE-41D8CAFA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E1B7-0C69-4C80-B59C-7DD25531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2537-F36A-4469-A6BC-55F4A25E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2A6E-C99B-4880-B3AF-2C727B30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83D-C00E-4FDD-9F07-03184EB1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6488-DC66-4599-9F64-940AC5E3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1089-5B58-47AF-AD70-6B5519CF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1886-D679-4902-868B-C1892393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DB57-702A-40B7-875A-1702F5D2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F002-6000-4579-8811-4F5F4A0F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FEC-1416-41AC-B42A-38CE3309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F38-CA7F-45E0-8AC7-F8CC9287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B5F-A259-4AAB-8366-E53686E9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C23-8377-49A8-A99F-22699081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D12-021E-41CD-965E-CB4D2E9D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D7F-8CE0-4B5F-9D2C-735E395E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ACC-E8AB-43F3-9081-81DC00BB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4E39-66F1-4709-9143-33D88F079064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9FCD-DCAA-439E-92F2-BA442BA4FDB3}" type="slidenum">
              <a:rPr b="0" lang="el-GR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16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7d47d"/>
                </a:solidFill>
                <a:latin typeface="Arial"/>
              </a:rPr>
              <a:t>Ευάλωτες Κοινωνικά Ομάδες</a:t>
            </a:r>
            <a:br>
              <a:rPr sz="3200"/>
            </a:br>
            <a:r>
              <a:rPr b="0" lang="el-GR" sz="3200" spc="-1" strike="noStrike">
                <a:solidFill>
                  <a:srgbClr val="f7d47d"/>
                </a:solidFill>
                <a:latin typeface="Arial"/>
              </a:rPr>
              <a:t>Κρατούμενοι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Ιωσήφ Φραγκούλη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Περιεχόμενο εκπαιδευτικού Συμβολαίου 1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Σύμφωνα με τον Rogers (1999) το συμβόλαιο πρέπει να περιέχει τουλάχιστον τα παρακάτω στοιχεία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σε τι αναφέρεται το πρόγραμμα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ποιο είναι το θέμα του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τι θα καλύψει και σε ποιο επίπεδο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ποια είναι η μορφή του προγράμματο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Περιεχόμενο εκπαιδευτικού Συμβολαίου 2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πόσο θα διαρκέσει και ποια θα είναι η συχνότητα και η διάρκεια των συναντήσεων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τι είδους εργασίες θα απαιτηθούν στις συναντήσεις ή στη διάρκεια των συναντήσεων της ομάδας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ποιες είναι οι υποχρεώσεις τους από τη συμμετοχή τους στο πρόγραμμ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Διερεύνηση επιμορφωτικών αναγκώ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ε ερωτηματολόγιο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ε συνεντεύξει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ε προφορική επικοινωνία- συζήτησ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Χαρακτηριστικά Εγκλεισμού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Ελευθερία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Υλικών Αγαθώ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εξουαλική Στέρησ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Αυτονομία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Ασφάλεια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Κοινωνικός Αποκλεισμός-Περιθωριοποίησ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Λόγοι που καθιστούν αναγκαία την εκπαίδευση κρατουμένων 1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Επανασύνδεση κρατουμένων με την εκπαιδευτική διαδικασί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Απόκτηση και αναβάθμιση βασικών δεξιοτήτων (δυνατότητα παραγωγής γραπτού και προφορικού λόγου, κατανόηση κειμένων, κτλ.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απόκτηση νέων βασικών δεξιοτήτων (χρήση Η/Υ, παραγωγή κειμένων, διαμόρφωση αιτήσεων, επεξεργασία εικόνας, κτλ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Λόγοι που καθιστούν αναγκαία την εκπαίδευση κρατουμένων 2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Απόκτηση κοινωνικών δεξιοτήτων (δυνατότητα επικοινωνίας και επίλυσης προβλημάτων που αφορούν στην καθημερινή ζωή, π.χ. γραπτή υποβολή αίτησης, αναζήτηση πληροφορίας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Δημιουργική αξιοποίηση ελεύθερου χρόνο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Επαγγελματικός επαναπροσανατολισμό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93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7d47d"/>
                </a:solidFill>
                <a:latin typeface="Arial"/>
              </a:rPr>
              <a:t>Διαφορές στην εκπαίδευση των κρατουμένων σε σχέση με την εκπαίδευση του γενικού πληθυσμού 1/2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Στο γενικό πληθυσμό οι εκπαιδευόμενοι έχουν το δικαίωμα της επιλογής, του αυτοκαθορισμού και της αυτοδιάθεσης ενώ στον έγκλειστο πληθυσμό τα ίδια δικαιώματα ακυρώνοντα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το γενικό πληθυσμό οι μαθητές έχουν πλήθος εμπειριών τις οποίες χρησιμοποιούν θέτοντας ανάλογους στόχους. Ο έγκλειστος πληθυσμός έχει συχνά αρνητικές εμπειρίες από το εκπαιδευτικό σύστημα και είναι ιδιαίτερα επιφυλακτικός απέναντι σε κάθε νέα πρόκληση εκπαιδευτικής προσπάθειας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46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7d47d"/>
                </a:solidFill>
                <a:latin typeface="Arial"/>
              </a:rPr>
              <a:t>Διαφορές στην εκπαίδευση των κρατουμένων σε σχέση με την εκπαίδευση του γενικού πληθυσμού 2/2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Στο γενικό πληθυσμό οι εκπαιδευόμενοι επιδιώκουν μέσω της παιδείας τη βελτίωσης των όρων της ζωής τους και την αντιμετώπιση των προβλημάτων τους με τον καλύτερο δυνατό τρόπο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για τους κρατούμενους πρώτιστος στόχος είναι η αποφυλάκιση και η επιβίωση στον χώρο του εγκλεισμού που γεννά πολλά δεινά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Το αίτημα για επανάκτηση της ελευθερίας, της ανεξαρτησία, της ασφάλεια και της κοινωνικής αποδοχής υπερέχει έναντι του αιτήματος για εκπαίδευση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Ρόλος εκπαιδευτή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Υποστηρικ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Ενθαρρυν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Διευκολυν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Κοινων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Διαμεσολαβη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υμβουλευ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Ενεργού ακροατή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Ενέργειες εκπαιδευτή για να είναι αποτελεσματικός στο έργο του 1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Καταρτίζει από κοινού με την ομάδα το εκπαιδευτικό συμβόλαιο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Δεν ρωτά ποτέ τα μέλη της ομάδας για τα τυχόν τελεσθέντα αδικήματα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Προσέρχεται πάντα στην ώρα του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Προετοιμάζει με συνέπεια το μάθημα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Δεν δίνει ούτε και παίρνει πράγματα από τα μέλη της ομάδας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Ενέργειες εκπαιδευτή για να είναι αποτελεσματικός στο έργο του 2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έβεται τους κανόνες της φυλακής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Δεν δίνει υποσχέσεις που δεν μπορεί να τηρήσε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Αποφεύγει να φορτίσει το κλίμα και να πυροδοτήσει συγκρούσεις με το περιεχόμενο της διδασκαλίας του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Κρατά ουδέτερη στάση σε περίπτωση σύγκρουσης στην ομάδα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Γεώργιος Φραγκούλης</cp:lastModifiedBy>
  <dcterms:modified xsi:type="dcterms:W3CDTF">2022-05-18T06:19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