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54722-3C99-401A-8E30-D55DEAB62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2EFAE-DD79-469E-9D56-14761D87B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9DBAD-B843-4546-88BD-A6D8600EA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32225-A1BA-40C4-9EE6-03DD4C0A0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C5D40-29FD-44F4-9172-6E5F9151C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05947-BAB8-48BA-AAC9-4A0040D70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3C8A6-0241-4F95-82D7-70A0131F5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DF84-0953-4498-A9F6-17C9E480F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8E70F-ED5B-4931-B952-67D0C4C87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A44D5-0CAC-4096-AE6B-13ACF99B4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6E4C2-AE97-4BC5-A78F-39C6B3FC6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F8959-6ADF-400A-8DAB-847A3137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84466-1C32-4073-A076-575394922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DEE3A-C4F8-4D87-824A-259860A21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FA367-75C3-42DD-9EFE-74EF7393F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68B49-BA58-4840-810B-977366D1B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3ECA9-AD2D-4D62-84EC-6B045EA44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38E12-3385-4B5C-BB62-2C6EA234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636BA-9303-4BDD-A7AE-4C8B62D90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8DA2-60B6-40A8-8435-62F729B5A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09F86-0574-4B29-852C-8CDAA2AFB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244F-0D32-4597-ACD2-5DFD69F53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83FC-A767-4DE1-8C73-ABFFD187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B131-2F97-4F61-8BE0-813EE9E0F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44C3-554F-4B8B-8C92-34B20C890D6B}"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6E28-D19B-4B09-884C-E81651FCDE1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000000"/>
                </a:solidFill>
                <a:latin typeface="Arial"/>
              </a:rPr>
              <a:t>ΣΤΡΕΣ-</a:t>
            </a:r>
            <a:br>
              <a:rPr sz="5400"/>
            </a:br>
            <a:r>
              <a:rPr b="0" lang="el-GR" sz="5400" spc="-1" strike="noStrike">
                <a:solidFill>
                  <a:srgbClr val="000000"/>
                </a:solidFill>
                <a:latin typeface="Arial"/>
              </a:rPr>
              <a:t>ΕΡΓΑΣΙΑΚΟ ΣΤΡΕΣ</a:t>
            </a:r>
            <a:endParaRPr b="0" lang="en-US" sz="5400" spc="-1" strike="noStrike">
              <a:solidFill>
                <a:srgbClr val="8c0039"/>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Ι. ΦΡΑΓΚΟΥΛ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θηγητής ΑΣΠΑΙΤ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2/3</a:t>
            </a: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ρησιμοποιήστε τεχνικές χαλάρωσης και διαλογισμού, που βοηθούν στο να μειωθεί η ένταση στους μύες και βοηθούν την αναπνοή να επανέλθει στον φυσιολογικό της ρυθμό.</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Μην αφήνετε μισοτελειωμένες εργασίες.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3/3</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φήστε χρόνο στο πρόγραμμα σας για κοινωνική και προσωπική ζωή ή έστω για ξεκούραση.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υστημική Θεωρία</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κή θέση της Συστημικής Θεωρίας είναι η άποψη ότι </a:t>
            </a:r>
            <a:r>
              <a:rPr b="1" lang="el-GR" sz="2800" spc="-1" strike="noStrike">
                <a:solidFill>
                  <a:srgbClr val="000000"/>
                </a:solidFill>
                <a:latin typeface="Arial"/>
              </a:rPr>
              <a:t>το όλο είναι διαφορετικό από το άθροισμα των μερών του. </a:t>
            </a:r>
            <a:r>
              <a:rPr b="0" lang="el-GR" sz="2800" spc="-1" strike="noStrike">
                <a:solidFill>
                  <a:srgbClr val="000000"/>
                </a:solidFill>
                <a:latin typeface="Arial"/>
              </a:rPr>
              <a:t>Αυτό συμβαίνει, γιατί ένα σύστημα περιλαμβάνει εκτός από το σύνολο των ενοτήτων του και μεταξύ των ενοτήτων σχέσεις. Με τον τρόπο αυτό, το ΟΛΟ είναι διαφορετικό από το σύνολο των επιμέρους στοιχείων του.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1/5</a:t>
            </a:r>
            <a:endParaRPr b="0" lang="en-US" sz="36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fontScale="99000"/>
          </a:bodyPr>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αρνητικών παραγόντων (παραγόντων που συνθέτουν την προβληματική κατάσταση)</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Έλεγχος των συνθηκών κάτω από τις οποίες εκδηλώνεται η αγχογόνος συμπεριφορά</a:t>
            </a:r>
            <a:endParaRPr b="0" lang="en-US" sz="2800" spc="-1" strike="noStrike">
              <a:solidFill>
                <a:srgbClr val="000000"/>
              </a:solidFill>
              <a:latin typeface="Arial"/>
            </a:endParaRPr>
          </a:p>
          <a:p>
            <a:pPr marL="603360" indent="-60336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σδιορισμός των συνεπειών που προκύπτουν από την αγχογόνο συμπεριφορά</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2/5</a:t>
            </a: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των δικών μας αντιδράσεων</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 συνεργασία με συναδέλφους</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συναδέλφων</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3/5</a:t>
            </a: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ζήτηση- συνεργασία με προϊσταμένο/ ους</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λυση στοιχείων που συνθέτουν την προβληματική κατάσταση</a:t>
            </a:r>
            <a:endParaRPr b="0" lang="en-US" sz="3200" spc="-1" strike="noStrike">
              <a:solidFill>
                <a:srgbClr val="000000"/>
              </a:solidFill>
              <a:latin typeface="Arial"/>
            </a:endParaRPr>
          </a:p>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νεργητική ακρόαση προϊσταμένων</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4/5</a:t>
            </a: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ζήτηση- συνεργασία με άλλους εμπλεκόμενους στη στρεσογόνο κατάσταση ( πχ. συναδέλφους, στελέχη επιχείρησης κτλ)</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θορισμός μικρών επιτεύξιμων στόχων-  ενεργειών για την αντιμετώπιση της στρεσογόνου κατάστασης</a:t>
            </a:r>
            <a:endParaRPr b="0" lang="en-US" sz="2800" spc="-1" strike="noStrike">
              <a:solidFill>
                <a:srgbClr val="000000"/>
              </a:solidFill>
              <a:latin typeface="Arial"/>
            </a:endParaRPr>
          </a:p>
          <a:p>
            <a:pPr marL="609480" indent="-6094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μόρφωση κατάλληλου επικοινωνιακού κλίματος στο χώρο της εργασίας</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Φάσεις ανάπτυξης Συστημικού Μοντέλου 5/5</a:t>
            </a:r>
            <a:endParaRPr b="0" lang="en-US" sz="3600" spc="-1" strike="noStrike">
              <a:solidFill>
                <a:srgbClr val="8c0039"/>
              </a:solidFill>
              <a:latin typeface="Arial"/>
            </a:endParaRPr>
          </a:p>
        </p:txBody>
      </p:sp>
      <p:sp>
        <p:nvSpPr>
          <p:cNvPr id="12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ξιολόγηση – συνεχή αποτίμηση  διαδικασίας άμβλυνσης του εργασιακού στρε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εχής  μεταπαρακολούθηση αξιοποιώντας το σχήμα (ενεργώ – παρατηρώ-   στοχάζομαι- αναθεωρώ)</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Στρες</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λέξη «στρες» αποτελεί τον αγγλικό όρο (stress) αυτού που ονομάζουμε στα ελληνικά «ψυχοκοινωνική πίεση». Αφορά ακριβώς στο αίσθημα που έχουμε όταν δεχόμαστε πιέσεις είτε από το εξωτερικό περιβάλλον (π.χ. οικογένεια, σχέσεις, εργασία, κοινωνικό περίγυρο) είτε από τον εαυτό μας (προσδοκίες, απαιτήσεις κτλ.) και στον τρόπο με τον οποίο αντιδρούμε όταν δεχόμαστε αυτές τις πιέσεις.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ΕΙΔΗ Τ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Έντον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Επεισοδιακό οξύ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Χρόνιο στρε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4"/>
          <p:cNvSpPr/>
          <p:nvPr/>
        </p:nvSpPr>
        <p:spPr>
          <a:xfrm>
            <a:off x="3722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8c0039"/>
                </a:solidFill>
                <a:latin typeface="Arial"/>
              </a:rPr>
              <a:t>ΤΑ ΣΥΜΠΤΩΜΑΤΑ ΤΟΥ ΕΝΤΟΝΟΥ ΣΤΡΕΣ</a:t>
            </a:r>
            <a:r>
              <a:rPr b="0" lang="el-GR" sz="3600" spc="-1" strike="noStrike">
                <a:solidFill>
                  <a:srgbClr val="8c0039"/>
                </a:solidFill>
                <a:latin typeface="Arial"/>
              </a:rPr>
              <a:t> </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ναισθ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κέψ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υμπεριφορά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Πεδίο  σωματικ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στρες</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προσδοκ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επιθυμίε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νθήκες του περιβάλλοντος, όπως αυτές γίνονται αντιληπτές,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λλιπής κοινωνική υποστήριξη,</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αρνητικός τρόπος με τον οποίο αντιμετωπίζουμε τα πράγματα, </a:t>
            </a:r>
            <a:br>
              <a:rPr sz="2400"/>
            </a:br>
            <a:r>
              <a:rPr b="0" lang="el-GR" sz="2400" spc="-1" strike="noStrike">
                <a:solidFill>
                  <a:srgbClr val="000000"/>
                </a:solidFill>
                <a:latin typeface="Arial"/>
              </a:rPr>
              <a:t>ορισμένες αρνητικές συνήθειες (π.χ., η τελειομανία), </a:t>
            </a:r>
            <a:br>
              <a:rPr sz="2400"/>
            </a:b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της προσωπικότητας και της ιδιοσυγκρασίας,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ρεις συμβουλές για την αντιμετώπιση του Στρες</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αλάρωση από ένταση</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τιμετώπιση αγχογόνου συναισθήματος</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λεγχος δυσάρεστων σκέψεων</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σύγχρονη νόσος των στελεχώ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To στρες είναι ίσως η πιο συχνή λέξη στην καθημερινότητα μας. Σε πολλές έρευνες και συνεντεύξεις με Έλληνες εργαζόμενους, είναι σαφές ότι η εντατικοποίηση της σύγχρονης εργασίας και οι αυξημένες απαιτήσεις των εργοδοτών ή -καλύτερα- της απρόσωπης εταιρείας βλάπτουν σοβαρά την υγεία. </a:t>
            </a:r>
            <a:endParaRPr b="0" lang="en-US" sz="2800" spc="-1" strike="noStrike">
              <a:solidFill>
                <a:srgbClr val="000000"/>
              </a:solidFill>
              <a:latin typeface="Arial"/>
            </a:endParaRPr>
          </a:p>
        </p:txBody>
      </p:sp>
      <p:sp>
        <p:nvSpPr>
          <p:cNvPr id="100" name="PlaceHolder 2"/>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Εργασιακό στρες</a:t>
            </a:r>
            <a:endParaRPr b="0" lang="en-US" sz="3600" spc="-1" strike="noStrike">
              <a:solidFill>
                <a:srgbClr val="8c003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Παράγοντες που προκαλούν εργασιακό στρες</a:t>
            </a: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οι εργαζόμενοι δεν έχουν ξεκάθαρη εικόνα των αρμοδιοτήτων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Υψηλό βαθμό ευθυνώ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δεν συμμετέχουν οι εργαζόμενοι στη  λήψη αποφάσεων.</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ισθάνονται ανασφαλείς σε ό,τι αφορά τη θέση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αντιμετωπίζουν προβλήματα επικοινωνίας με συναδέλφους, προϊσταμένους ή υφισταμέν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έχουν την αίσθηση ότι δεν αναγνωρίζεται / εκτιμάται η εργασία τους.</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γίνονται συνεχείς αλλαγές/ ανακατατάξεις στον οργανισμό.</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8c0039"/>
                </a:solidFill>
                <a:latin typeface="Arial"/>
              </a:rPr>
              <a:t>Τεχνικές αντιμετώπισης εργασιακού στρες  1/3</a:t>
            </a: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ην αγνοείτε το πρόβλημα με την ελπίδα ότι θα περάσει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νωρίστε τι μπορεί να αλλάξετε</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ώστε την ένταση των συναισθηματικών σας αντιδράσεων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17:58:16Z</dcterms:created>
  <dc:creator>ΠΑΤΡΑ 2006</dc:creator>
  <dc:description/>
  <dc:language>en-US</dc:language>
  <cp:lastModifiedBy>Γεώργιος Φραγκούλης</cp:lastModifiedBy>
  <dcterms:modified xsi:type="dcterms:W3CDTF">2022-05-02T15:17:03Z</dcterms:modified>
  <cp:revision>13</cp:revision>
  <dc:subject/>
  <dc:title>Διαφάνεια 1</dc:title>
</cp:coreProperties>
</file>