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0C85-3800-4134-BACC-846139CD6CF3}" type="slidenum">
              <a:rPr b="0" lang="el-G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B37C-734D-4F5B-BD77-0A8BEA9D4F0A}"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0399-F9AA-453D-9B5D-3B718A000C8F}"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C590-5BC0-4911-AD51-186B91DF6D33}"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0E44-B5A8-4AD0-A584-5E7367EB64D3}"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935B-6E81-4F89-B631-71BFA7FE5B9E}"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AB7B-0364-41CD-A4C2-635AF1180A5E}"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BAE3-CD5A-4BD9-B4FF-14BFC6FB28E5}"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E5B5-2FDC-4001-9312-92199540F87E}"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DE552-B7D3-4F7A-9705-AA57F08B4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503C-2B8F-4AC5-965E-56FA211D8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94666-B4E3-4370-800A-6802C19BC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E6BF2-FD03-4C28-ACED-35A352A91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6ED20-981B-442E-AB6E-636345488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F4213-F817-4936-9C37-5707EBF46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46E3F-8CB9-4E94-90CD-40A3C127D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86425-8D1E-4769-8790-D5C231578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30624-E18A-4D8C-9289-D65CF11B5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6DC09-9063-43B0-9EB6-585559EC5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EB2D2-180C-4128-B213-96A82AC0C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E31D9-936E-405A-89AE-7D6471318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1C5CE-991F-4C03-A22A-7C6D3846C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D358C-FBDB-44BD-886D-29B8F3447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28A9E-0926-47E9-90B3-6116DC002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DDA37-8374-4E76-B6C3-D6CB0B102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C424E-A3FE-484B-8531-BD1EB7C71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D8728-38A1-47CC-A66F-6ECD60A1E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A8939-78CA-456A-9F2D-CE43F0AB5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3C696-6C32-4980-B85B-D157804A2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8D933-5EDF-4DF5-95FB-42706C1F4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832B-882E-490D-A25F-F08449E6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960E-E2FA-4088-A64E-CE6C44123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EDD1-C742-4407-A86E-DA30B7511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5F97-0D57-4434-86C8-BD6EC96162A2}"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D202-0AEE-46D3-A91D-C700615C2D1C}"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1752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l-GR" sz="2000" spc="-1" strike="noStrike">
                <a:solidFill>
                  <a:srgbClr val="ffff99"/>
                </a:solidFill>
                <a:latin typeface="Arial"/>
              </a:rPr>
              <a:t>«ΕΚΠΑΙΔΕΥΤΙΚΗ ΝΟΜΟΘΕΣΙΑ»</a:t>
            </a:r>
            <a:br>
              <a:rPr sz="2000"/>
            </a:br>
            <a:endParaRPr b="0" lang="en-US" sz="2000" spc="-1" strike="noStrike">
              <a:solidFill>
                <a:srgbClr val="ffff99"/>
              </a:solidFill>
              <a:latin typeface="Arial"/>
            </a:endParaRPr>
          </a:p>
        </p:txBody>
      </p:sp>
      <p:sp>
        <p:nvSpPr>
          <p:cNvPr id="168" name="PlaceHolder 2"/>
          <p:cNvSpPr>
            <a:spLocks noGrp="1"/>
          </p:cNvSpPr>
          <p:nvPr>
            <p:ph type="subTitle"/>
          </p:nvPr>
        </p:nvSpPr>
        <p:spPr>
          <a:xfrm>
            <a:off x="1371600" y="2895480"/>
            <a:ext cx="6400800" cy="1828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Ι. ΦΡΑΓΚΟΥΛΗΣ</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ΚΑΘΗΓΗΤΗΣ ΑΣΠΑΙΤ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ΥΠΟΙ ΣΧΟΛΕΙΩΝ </a:t>
            </a:r>
            <a:br>
              <a:rPr sz="4400"/>
            </a:br>
            <a:r>
              <a:rPr b="0" lang="el-GR" sz="2400" spc="-1" strike="noStrike">
                <a:solidFill>
                  <a:srgbClr val="ffff99"/>
                </a:solidFill>
                <a:latin typeface="Arial"/>
              </a:rPr>
              <a:t>(Βάσει τοπικών αναγκών και ιδιαιτεροτήτων μαθητών) 1/2</a:t>
            </a:r>
            <a:endParaRPr b="0" lang="en-US" sz="2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5050"/>
                </a:solidFill>
                <a:uFillTx/>
                <a:latin typeface="Verdana"/>
              </a:rPr>
              <a:t>1. Σχολεία Διαπολιτισμικής εκπαίδευσ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Ιδιαίτερες εκπαιδευτικές- κοινωνικές- πολιτιστικές ανάγκες μαθητών, παλιννοστούντες και αλλοδαποί 45%)</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413/1996 (σήμερα 13 δημ, 9 Γυμν, 4 Λύκει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ία, οδηγίες, επιμόρφωση προσωπικού από ΙΕΠ</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ισότητα ευκαιριών και ενσωμάτω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2/</a:t>
            </a:r>
            <a:r>
              <a:rPr b="0" lang="en-US" sz="4400" spc="-1" strike="noStrike">
                <a:solidFill>
                  <a:srgbClr val="ffff99"/>
                </a:solidFill>
                <a:latin typeface="Arial"/>
              </a:rPr>
              <a:t>3</a:t>
            </a:r>
            <a:endParaRPr b="0" lang="en-US" sz="4400" spc="-1" strike="noStrike">
              <a:solidFill>
                <a:srgbClr val="ffff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 </a:t>
            </a:r>
            <a:r>
              <a:rPr b="0" lang="el-GR" sz="2400" spc="-1" strike="noStrike" u="sng">
                <a:solidFill>
                  <a:srgbClr val="ffffff"/>
                </a:solidFill>
                <a:uFillTx/>
                <a:latin typeface="Verdana"/>
              </a:rPr>
              <a:t>Μουσικά (37)</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γραμμα συμβατικών σχολείων +μουσ.μαθήματα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οπτεία,οδηγίες,αξιολόγηση-5μελής καλλιτεχν.επιτροπή από ΥΠΕΠΘ</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3. Καλλιτεχνικά</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δρυση το 2004 – 2 (Γέρακας+Ηράκλειο Κρήτης)</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γγραφή μαθητών με επιλογή από ειδ. Επιτροπή</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ατευθύνσεις θεάτρου,κιν/φου, χορού, εικαστικώ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3/3</a:t>
            </a:r>
            <a:endParaRPr b="0" lang="en-US" sz="4400" spc="-1" strike="noStrike">
              <a:solidFill>
                <a:srgbClr val="ffff99"/>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a:t>
            </a:r>
            <a:r>
              <a:rPr b="0" lang="el-GR" sz="2000" spc="-1" strike="noStrike" u="sng">
                <a:solidFill>
                  <a:srgbClr val="ffffff"/>
                </a:solidFill>
                <a:uFillTx/>
                <a:latin typeface="Verdana"/>
              </a:rPr>
              <a:t>. ΣΔΕ </a:t>
            </a:r>
            <a:r>
              <a:rPr b="0" lang="el-GR" sz="2000" spc="-1" strike="noStrike">
                <a:solidFill>
                  <a:srgbClr val="ffffff"/>
                </a:solidFill>
                <a:latin typeface="Verdana"/>
              </a:rPr>
              <a:t>(Δημοτικά,Γυμνάσι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Άρθρο 5 ν.2525/1997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Λειτουργούν από το 1999-2000</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Μαθητές - Όσοι  είναι άνω των 18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γράμματα ταχύρρυθμης εκπαίδευσης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εν υπάρχουν αυτόνομα μαθήματα, αλλά ενότητες μαθημάτων</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a:t>
            </a:r>
            <a:r>
              <a:rPr b="0" lang="en-US" sz="2000" spc="-1" strike="noStrike">
                <a:solidFill>
                  <a:srgbClr val="ffffff"/>
                </a:solidFill>
                <a:latin typeface="Verdana"/>
              </a:rPr>
              <a:t>module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ff"/>
                </a:solidFill>
                <a:uFillTx/>
                <a:latin typeface="Verdana"/>
              </a:rPr>
              <a:t>5. Λοιπά </a:t>
            </a:r>
            <a:r>
              <a:rPr b="0" lang="el-GR" sz="2000" spc="-1" strike="noStrike">
                <a:solidFill>
                  <a:srgbClr val="ffffff"/>
                </a:solidFill>
                <a:latin typeface="Verdana"/>
              </a:rPr>
              <a:t>(εκκλησιαστικά, πειραματικά , μειονοτικά, ειδικής αγωγής, αθλητικά)</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ισχύον πλαίσιο (1268/1982 «για την ανώτατη εκπαίδευση» + 1404/1983 «νόμος ΤΕΙ»)</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916/2001 «Διάρθρωση ανώτατης εκπαίδευσης και ρύθμιση θεμάτων τεχνολογικού τομέα»</a:t>
            </a:r>
            <a:endParaRPr b="0" lang="en-US" sz="28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ρ.1- Δύο παράλληλοι τομείς ανωτ. εκπαίδευσης 1.Πανεπ.τομέας (πανεπιστήμια, Πολυτεχνεία και ΑΣΚΤ 2.Τεχνολ.τομέας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Τα ιδρύματα τριτοβάθμιας εκπαίδευσης είναι αυτοδιοικούμενα</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Μεταλυκειακή εκπαίδευση</a:t>
            </a:r>
            <a:endParaRPr b="0" lang="en-US" sz="4400" spc="-1" strike="noStrike">
              <a:solidFill>
                <a:srgbClr val="ffff99"/>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Ινστιτούτα επαγγελματικής κατάρτι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όσια ή ιδιωτικά – χορήγηση πιστοπ. επαγγελματικής κατάρτισης μετά πέρας σπουδών</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κοπός – Επαγγελματική κατάρτιση και διευκόλυνση επαγγελματικής ένταξης  (διδασκαλία επιστημονικών, τεχνικών και πρακτικών γνώσεων)</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ΔΙΑ ΒΙΟΥ ΕΚΠΑΙΔΕΥΣΗ</a:t>
            </a:r>
            <a:br>
              <a:rPr sz="4000"/>
            </a:br>
            <a:r>
              <a:rPr b="0" lang="el-GR" sz="4000" spc="-1" strike="noStrike">
                <a:solidFill>
                  <a:srgbClr val="ffff99"/>
                </a:solidFill>
                <a:latin typeface="Arial"/>
              </a:rPr>
              <a:t>Κέντρα Δια Βίου Μάθησης </a:t>
            </a:r>
            <a:endParaRPr b="0" lang="en-US" sz="4000" spc="-1" strike="noStrike">
              <a:solidFill>
                <a:srgbClr val="ffff99"/>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fffff"/>
                </a:solidFill>
                <a:uFillTx/>
                <a:latin typeface="Verdana"/>
              </a:rPr>
              <a:t>ΚΕΔΙΒΙΜ με στόχο</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σες ευκαιρίες εκπαίδευση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σβαση στην αγορά εργασ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ή εξέλιξη</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οσαρμογή σε ανταγωνιστικές συνθήκε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υμμετοχή σε κοινωνία γνώσης+ πληροφορ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διαίτερη αναβάθμιση εκπαίδευσης και εργασίας ευάλωτων ομάδω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χ φυλακισμένοι, Μετανάστες, Ανήλικοι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αραβάτες κτλ)</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ΟΜΗ ΥΠΕΠΘ</a:t>
            </a:r>
            <a:endParaRPr b="0" lang="en-US" sz="4400" spc="-1" strike="noStrike">
              <a:solidFill>
                <a:srgbClr val="ffff99"/>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εντρική Υπηρεσία</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οκεντρωμένες Υπηρεσίες</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υόμενοι φορείς</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Γενικά συγκεντρωτική δομή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εντρική Υπηρεσία για διοίκηση και συντονισμό σε Α/θμια &amp; Β/θμια εκπαίδευση και επιχορήγηση και εποπτεία σε ΑΕΙ και ΤΕΙ, ακόμη και για ειδικά θέματα όπως</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ωρολ.πρόγραμμα, διορισμοί-μισθοδοσία προσωπικού κτλ</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99"/>
                </a:solidFill>
                <a:latin typeface="Arial"/>
              </a:rPr>
              <a:t>ΟΡΓΑΝΙΚΕΣ ΜΟΝΑΔΕΣ ΤΗΣ ΚΕΝΤΡΙΚΗΣ ΥΠΗΡΕΣΙΑΣ ΤΟΥ ΥΠ.Ε.Π.Θ.</a:t>
            </a:r>
            <a:br>
              <a:rPr sz="1800"/>
            </a:br>
            <a:br>
              <a:rPr sz="1800"/>
            </a:br>
            <a:endParaRPr b="0" lang="en-US" sz="1800" spc="-1" strike="noStrike">
              <a:solidFill>
                <a:srgbClr val="ffff99"/>
              </a:solidFill>
              <a:latin typeface="Arial"/>
            </a:endParaRPr>
          </a:p>
        </p:txBody>
      </p:sp>
      <p:sp>
        <p:nvSpPr>
          <p:cNvPr id="200" name="PlaceHolder 2"/>
          <p:cNvSpPr>
            <a:spLocks noGrp="1"/>
          </p:cNvSpPr>
          <p:nvPr>
            <p:ph/>
          </p:nvPr>
        </p:nvSpPr>
        <p:spPr>
          <a:xfrm>
            <a:off x="380880" y="990360"/>
            <a:ext cx="8229600" cy="4530600"/>
          </a:xfrm>
          <a:prstGeom prst="rect">
            <a:avLst/>
          </a:prstGeom>
          <a:noFill/>
          <a:ln w="0">
            <a:noFill/>
          </a:ln>
        </p:spPr>
        <p:txBody>
          <a:bodyPr anchor="t">
            <a:normAutofit fontScale="86000"/>
          </a:bodyPr>
          <a:p>
            <a:pPr marL="294840" indent="-2948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ΠΑΝΕΠΙΣΤΗΜΙΑΚΗΣ</a:t>
            </a:r>
            <a:endParaRPr b="0" lang="en-US" sz="2000" spc="-1" strike="noStrike">
              <a:solidFill>
                <a:srgbClr val="ffffff"/>
              </a:solidFill>
              <a:latin typeface="Verdana"/>
            </a:endParaRPr>
          </a:p>
          <a:p>
            <a:pPr marL="294840" indent="-2948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ΚΠΑΙ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λετών, Στατιστικής και Οργάνωση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και Φοιτητικής Μέριμνα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ταπτυχιακών Σπουδών και Έρευνας</a:t>
            </a:r>
            <a:endParaRPr b="0" lang="en-US" sz="2000" spc="-1" strike="noStrike">
              <a:solidFill>
                <a:srgbClr val="ffffff"/>
              </a:solidFill>
              <a:latin typeface="Verdana"/>
            </a:endParaRPr>
          </a:p>
          <a:p>
            <a:pPr marL="294840" indent="-29484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Ανώτατης Τεχνολογι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νεξάρτητο Τμήμα Διαπανεπιστημιακών Σχέσεων</a:t>
            </a:r>
            <a:endParaRPr b="0" lang="en-US" sz="2000" spc="-1" strike="noStrike">
              <a:solidFill>
                <a:srgbClr val="ffffff"/>
              </a:solidFill>
              <a:latin typeface="Verdan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29484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ΔΙΑΧΕΙΡΙΣΗΣ ΠΡΟΓΡΑΜΜΑΤΩΝ ΚΟΙΝΟΤΙΚΟΥ ΠΛΑΙΣΙΟΥ ΣΤΗΡΙΞΗΣ</a:t>
            </a:r>
            <a:endParaRPr b="0" lang="en-US" sz="2000" spc="-1" strike="noStrike">
              <a:solidFill>
                <a:srgbClr val="ffffff"/>
              </a:solidFill>
              <a:latin typeface="Verdana"/>
            </a:endParaRPr>
          </a:p>
          <a:p>
            <a:pPr marL="294840" indent="-29484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ή Υπηρεσία Διαχείρισης ΕΠΕΑΕΚ</a:t>
            </a:r>
            <a:endParaRPr b="0" lang="en-US" sz="2000" spc="-1" strike="noStrike">
              <a:solidFill>
                <a:srgbClr val="ffffff"/>
              </a:solidFill>
              <a:latin typeface="Verdana"/>
            </a:endParaRPr>
          </a:p>
          <a:p>
            <a:pPr marL="294840" indent="-294840">
              <a:lnSpc>
                <a:spcPct val="9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Η ΥΠΗΡΕΣΙΑ ΕΦΑΡΜΟΓΗΣ ΠΡΟΓΡΑΜΜΑΤΩΝ ΚΠΣ </a:t>
            </a:r>
            <a:endParaRPr b="0" lang="en-US" sz="2000" spc="-1" strike="noStrike">
              <a:solidFill>
                <a:srgbClr val="ffffff"/>
              </a:solidFill>
              <a:latin typeface="Verdana"/>
            </a:endParaRPr>
          </a:p>
          <a:p>
            <a:pPr marL="294840" indent="-294840">
              <a:lnSpc>
                <a:spcPct val="9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άγεται απευθείας στον Υπουργό του ΥΠΕΠΘ</a:t>
            </a:r>
            <a:endParaRPr b="0" lang="en-US" sz="2000" spc="-1" strike="noStrike">
              <a:solidFill>
                <a:srgbClr val="ffffff"/>
              </a:solidFill>
              <a:latin typeface="Verdana"/>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380880" y="380880"/>
            <a:ext cx="7696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ΚΠΑΙΔΕΥΤΙΚΟΥ ΣΧΕΔΙΑΣΜΟΥ, ΕΚΠΑΙΔΕΥΣΗΣ ΕΛΛΗΝΟΠΑΙΔΩΝ  ΕΞΩΤΕΡΙΚΟΥ, ΔΙΑΠΟΛΙΤΙΣΜΙΚΗΣ ΕΚΠΑΙΔΕΥΣΗΣ &amp; ΑΠΟΚΕΝΤΡΩΣΗΣ ΤΟΥ ΥΠ.Ε.Π.Θ</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Παιδείας Ομογενών και Διαπολιτισμικής Εκπαίδευ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Ξένων και Μειονοτικών Σχολείων</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ΠΟΠΤΙΚΩΝ ΜΕΣΩΝ  ΔΙΔΑΣΚΑΛΙΑΣ, ΕΚΠΑΙΔΕΥΤΙΚΗΣ ΡΑΔΙΟΤΗΛΕΟΡΑΣΗΣ, ΒΙΒΛΙΟΘΗΚΩΝ  ΚΑΙ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ΙΣΤΟΡΙΚΩΝ ΑΡΧΕΙΩΝ  ΣΤΟ  ΥΠ.Ε.Π.Θ.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Βιβλιοθηκών και Γενικών Αρχείων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Εκπαιδευτικής  Ραδιοτηλεόρα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228600" y="762120"/>
            <a:ext cx="8381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ΘΕΜΑΤΩΝ  ΣΠΟΥΔ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ΠΙΜΟΡΦΩΣΗΣ  ΚΑΙ  ΚΑΙΝΟΤΟΜΙ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υμβουλευτικού Επαγγελματικού Προσανατολισμού &amp; Επαγγελματικών Δραστηριοτή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a:solidFill>
                  <a:srgbClr val="ff5050"/>
                </a:solidFill>
                <a:latin typeface="Verdana"/>
              </a:rPr>
              <a:t>ΔΙΟΙΚΗΤΙΚΟΣ  ΤΟΜΕΑΣ   ΤΕΧΝΟΛΟΓΙΚΟΥ ΤΟΜΕΑ ΑΝΩΤΑΤΗ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Τεχνολογικού Τομέα Ανωτάτης Εκπαίδευσης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ΓΡΑΜΜΑΤΕΙΑ ΘΡΗΣΚΕΥΜΑ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ή Διεύθυνση Θρησκευ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Διοίκη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Εκπαίδευσης και Θρησκευτ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τεροδόξων και Ετεροθρήσκω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Σύμφωνα με το Σύνταγμα η εκπαίδευση αποτελεί βασική αποστολή του κράτους που στοχεύει στη:</a:t>
            </a:r>
            <a:endParaRPr b="0" lang="en-US" sz="28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Ηθική</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ιανοητική</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Φυσική Αγωγή των Ελλήνω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της εθνικής και θρησκευτικής συνειδητοποίησης</a:t>
            </a:r>
            <a:endParaRPr b="0" lang="en-US" sz="32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ιουργία ελεύθερων πολιτώ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914400" y="1066680"/>
            <a:ext cx="76201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ΣΠΟΥΔΩΝ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Φυσ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ιδ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ΣΗΣ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ών Υποθέσεων Πρωτοβάθμιας και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ΠΡΟΓΡΑΜΜΑΤΙΣΜΟΥ</a:t>
            </a:r>
            <a:r>
              <a:rPr b="1"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φαρμογής Εκπαιδευτικών Σχεδί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γραμματισμού και Επιχειρησιακών Ερευν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762120" y="1163520"/>
            <a:ext cx="7543800" cy="42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ΤΙΚΗΣ ΚΑΙ ΟΙΚΟΝΟΜΙΚΗΣ ΥΠΟΣΤΗΡΙΞ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ού Κεντρικής Υπηρεσία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ικονομικών Υποθέσε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ργάνωσης και Απλούστευσης Διαδικασ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ής Ανάπτυξης Πληροφοριακών Συστη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ών Υποδομών Πληροφορικής και Νέων Τεχνολογ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Διεύθυνση Ποιότητας &amp; Αποδοτικότητας</a:t>
            </a:r>
            <a:endParaRPr b="0" lang="en-US" sz="2000" spc="-1" strike="noStrike">
              <a:solidFill>
                <a:srgbClr val="ffffff"/>
              </a:solidFill>
              <a:latin typeface="Verdana"/>
            </a:endParaRPr>
          </a:p>
          <a:p>
            <a:pPr>
              <a:spcBef>
                <a:spcPts val="125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2895480" y="129528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5050"/>
                </a:solidFill>
                <a:latin typeface="Verdana"/>
              </a:rPr>
              <a:t>Ανεξάρτητα γραφεία</a:t>
            </a:r>
            <a:endParaRPr b="0" lang="en-US" sz="2800" spc="-1" strike="noStrike">
              <a:solidFill>
                <a:srgbClr val="ffffff"/>
              </a:solidFill>
              <a:latin typeface="Verdana"/>
            </a:endParaRPr>
          </a:p>
        </p:txBody>
      </p:sp>
      <p:sp>
        <p:nvSpPr>
          <p:cNvPr id="206" name="Rectangle 5"/>
          <p:cNvSpPr/>
          <p:nvPr/>
        </p:nvSpPr>
        <p:spPr>
          <a:xfrm>
            <a:off x="838080" y="2286000"/>
            <a:ext cx="73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Επικοινωνίας &amp; Ενημέρωσης Πολιτώ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Τύπου και Δημοσίων Σχέσεω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Κοινωνίας της Πληροφορίας</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Δικτυακής Εκπαιδευτικής Πύλη</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Αποκεντρωμένες υπηρεσίες</a:t>
            </a:r>
            <a:br>
              <a:rPr sz="2800"/>
            </a:br>
            <a:r>
              <a:rPr b="0" lang="el-GR" sz="2800" spc="-1" strike="noStrike">
                <a:solidFill>
                  <a:srgbClr val="ffff99"/>
                </a:solidFill>
                <a:latin typeface="Arial"/>
              </a:rPr>
              <a:t>(διοίκηση και εποπτεία Α/θμιας +Β/θμιας Εκπαίδευσης)</a:t>
            </a:r>
            <a:endParaRPr b="0" lang="en-US" sz="2800" spc="-1" strike="noStrike">
              <a:solidFill>
                <a:srgbClr val="ffff99"/>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ικός έλεγχος σε επίπεδο</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a:t>
            </a:r>
            <a:r>
              <a:rPr b="0" lang="el-GR" sz="2800" spc="-1" strike="noStrike" u="sng">
                <a:solidFill>
                  <a:srgbClr val="ffffff"/>
                </a:solidFill>
                <a:uFillTx/>
                <a:latin typeface="Verdana"/>
              </a:rPr>
              <a:t>Περιφέρειας</a:t>
            </a:r>
            <a:r>
              <a:rPr b="0" lang="el-GR" sz="2800" spc="-1" strike="noStrike">
                <a:solidFill>
                  <a:srgbClr val="ffffff"/>
                </a:solidFill>
                <a:latin typeface="Verdana"/>
              </a:rPr>
              <a:t> (Περιφ.Δ/νσεις)</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817/2000 σύσταση περιφ.Δ/νσεων εκτό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ν.2986/2002 προσδιορισμός περιφ.υπηρεσιών ΥΠΕΠ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a:t>
            </a:r>
            <a:r>
              <a:rPr b="0" lang="el-GR" sz="2800" spc="-1" strike="noStrike" u="sng">
                <a:solidFill>
                  <a:srgbClr val="ffffff"/>
                </a:solidFill>
                <a:uFillTx/>
                <a:latin typeface="Verdana"/>
              </a:rPr>
              <a:t>Νομού</a:t>
            </a:r>
            <a:r>
              <a:rPr b="0" lang="el-GR" sz="2800" spc="-1" strike="noStrike">
                <a:solidFill>
                  <a:srgbClr val="ffffff"/>
                </a:solidFill>
                <a:latin typeface="Verdana"/>
              </a:rPr>
              <a:t> (Δ/νσεις εκπαίδευσης </a:t>
            </a:r>
            <a:r>
              <a:rPr b="0" lang="el-GR" sz="2400" spc="-1" strike="noStrike">
                <a:solidFill>
                  <a:srgbClr val="ffffff"/>
                </a:solidFill>
                <a:latin typeface="Verdana"/>
              </a:rPr>
              <a:t>ν.1304/198</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άλυψη διοικητικών αναγκών με αποσπασμένους εκπαιδευτικούς – αρ.9παρ 2 ν.2986/2002 κίνητρο</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με μόριο μετάθεσης ίσα με οργανικής θέσης)</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214200" y="0"/>
            <a:ext cx="8715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Εποπτευόμενοι φορείς</a:t>
            </a:r>
            <a:endParaRPr b="0" lang="en-US" sz="44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Ινστιτούτο  Εκπαιδευτικής Πολιτικής</a:t>
            </a:r>
            <a:endParaRPr b="0" lang="en-US" sz="2800" spc="-1" strike="noStrike">
              <a:solidFill>
                <a:srgbClr val="ffffff"/>
              </a:solidFill>
              <a:latin typeface="Verdana"/>
            </a:endParaRPr>
          </a:p>
          <a:p>
            <a:pPr marL="325800" indent="-32580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 Κατάρτιση και υποβολή προτάσεων για το σχεδιασμό και προγραμματισμό της εκπαιδευτικής πολιτικής.                                                                                                                    2. Κατάρτιση των Αναλυτικών Προγραμμάτων των μαθημάτων και των εργαστηριακών ασκήσεων στα σχολεία της Πρωτοβάθμιας και Δευτεροβάθμιας Εκπαίδευσης.                                                                                                                      3. Εισήγηση για την προκήρυξη και τη συγγραφή βιβλίων για τους μαθητές και εκπαιδευτικούς.                                                                                                                                            4. Εισηγήσεις για τη λήψη μέτρων για τη βελτίωση των μεθόδων διδασκαλίας.                                                                                                                                                                          5. Γνωμοδότηση σχετικά με το περιεχόμενο της επιμόρφωσης των εκπαιδευτικών.                                                                                                                                                                   6. Συνεργασία με Συμβούλους Εκπάιδευσης και παροχή βοήθειας στην άσκηση του έργου τους.                                                                                                                               </a:t>
            </a:r>
            <a:endParaRPr b="0" lang="en-US" sz="1800" spc="-1" strike="noStrike">
              <a:solidFill>
                <a:srgbClr val="ffffff"/>
              </a:solidFill>
              <a:latin typeface="Verdana"/>
            </a:endParaRPr>
          </a:p>
          <a:p>
            <a:pPr marL="325800" indent="-325800">
              <a:lnSpc>
                <a:spcPct val="90000"/>
              </a:lnSpc>
              <a:spcBef>
                <a:spcPts val="700"/>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7. Συμμετοχή στη διαδικασία αξιολόγησης του εκπαιδευτικού έργου</a:t>
            </a:r>
            <a:r>
              <a:rPr b="0" lang="el-GR" sz="2800" spc="-1" strike="noStrike">
                <a:solidFill>
                  <a:srgbClr val="ffffff"/>
                </a:solidFill>
                <a:latin typeface="Verdana"/>
              </a:rPr>
              <a:t>. </a:t>
            </a:r>
            <a:endParaRPr b="0" lang="en-US" sz="2800" spc="-1" strike="noStrike">
              <a:solidFill>
                <a:srgbClr val="ffffff"/>
              </a:solidFill>
              <a:latin typeface="Verdan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λλοι φορείς</a:t>
            </a: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5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Οργανισμός Σχολικών Κτηρίων </a:t>
            </a:r>
            <a:endParaRPr b="0" lang="en-US" sz="2400" spc="-1" strike="noStrike">
              <a:solidFill>
                <a:srgbClr val="ffffff"/>
              </a:solidFill>
              <a:latin typeface="Verdana"/>
            </a:endParaRPr>
          </a:p>
          <a:p>
            <a:pPr marL="343080" indent="-343080">
              <a:lnSpc>
                <a:spcPct val="15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θνικό Ίδρυμα Νεότητας  (Φοιτητικές Εστίες)</a:t>
            </a:r>
            <a:endParaRPr b="0" lang="en-US" sz="2400" spc="-1" strike="noStrike">
              <a:solidFill>
                <a:srgbClr val="ffffff"/>
              </a:solidFill>
              <a:latin typeface="Verdana"/>
            </a:endParaRPr>
          </a:p>
          <a:p>
            <a:pPr marL="343080" indent="-343080">
              <a:lnSpc>
                <a:spcPct val="2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Τεχνολογίας Υπολογιστών- Διόφαντος</a:t>
            </a:r>
            <a:endParaRPr b="0" lang="en-US" sz="2400" spc="-1" strike="noStrike">
              <a:solidFill>
                <a:srgbClr val="ffffff"/>
              </a:solidFill>
              <a:latin typeface="Verdana"/>
            </a:endParaRPr>
          </a:p>
          <a:p>
            <a:pPr marL="343080" indent="-343080">
              <a:lnSpc>
                <a:spcPct val="2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Νεολαίας και Δια Βίου Μάθησης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Υπαλληλικός Κώδικας (ν.3528/2007)</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Θεσμικό πλαίσιο διαχείρισης ανθρώπινου δυναμικού δημόσιας διοίκησης</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 εκσυγχρονισμός λειτουργίας δημόσιας διοίκησης+αναβάθμιση ανθρώπινου δυναμικού</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ηγές – Νομολογία διοικητικό δίκαιο, διοικητική επιστήμη, ν.2683/99)</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Ρυθμιστικό πεδίο- Υπηρεσιακή κατάσταση ΜΟΝΙΜΩΝ υπαλλήλων δημοσίου (ΝΠΔΔ+Κράτους)</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Ανθρώπινο δυναμικό Δημόσιας Διοίκησης</a:t>
            </a:r>
            <a:endParaRPr b="0" lang="en-US" sz="32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δημοσίου δικαίου</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1800" spc="-1" strike="noStrike">
                <a:solidFill>
                  <a:srgbClr val="ffffff"/>
                </a:solidFill>
                <a:latin typeface="Verdana"/>
              </a:rPr>
              <a:t>   </a:t>
            </a:r>
            <a:r>
              <a:rPr b="0" lang="el-GR" sz="1800" spc="-1" strike="noStrike">
                <a:solidFill>
                  <a:srgbClr val="ffffff"/>
                </a:solidFill>
                <a:latin typeface="Verdana"/>
              </a:rPr>
              <a:t>1.Μόνιμοι (οργανικές θέσεις – λήξη με κατάργηση θέσης, δικαίωμα μετάταξης/προσφυγής)</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2.Επί θητεία (ορισμένος χρόνος –εξομοίωση με μόνιμους-αυτοδίκαιη παύση δημοσιοϋπαλληλικής ιδιότητας με λήξη θητείας)</a:t>
            </a:r>
            <a:endParaRPr b="0" lang="en-US" sz="18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ιδιωτικού δικαί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1. Αορίστου χρόνου (Ειδ.Επιστημ.Πρ/Ειδ.Τεχν.Πρ)</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2.Ορισμένου χρόνου (κάλυψη επειγουσών αναγκών διάρκειας 4μηνών ή εποχιακών διάρκειας  8μηνών ανά έτος)</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ΔΥΠΑ</a:t>
            </a:r>
            <a:r>
              <a:rPr b="0" lang="en-US" sz="1800" spc="-1" strike="noStrike">
                <a:solidFill>
                  <a:srgbClr val="ffffff"/>
                </a:solidFill>
                <a:latin typeface="Verdana"/>
              </a:rPr>
              <a:t> – </a:t>
            </a:r>
            <a:r>
              <a:rPr b="0" lang="el-GR" sz="1800" spc="-1" strike="noStrike">
                <a:solidFill>
                  <a:srgbClr val="ffffff"/>
                </a:solidFill>
                <a:latin typeface="Verdana"/>
              </a:rPr>
              <a:t>επιδοτούμενο πρόγραμμα μέχρι 1έτος   με δυνατότητα ανανέωσης- παράτασης</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οσλήψεις στο Δημόσιο</a:t>
            </a:r>
            <a:endParaRPr b="0" lang="en-US" sz="44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2190/94 (αντικειμενικά κριτήρια αξιολόγησης-σύσταση ΑΣΕΠ)</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3051/2002</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Ενίσχυση ΑΣΕΠ (από το 2001 θεωρείται ως Ανεξάρτητη Διοικητική Αρχή+ ενισχύθηκε με ειδικό επιστημονικό προσωπικ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Ελεγ.μηχανισμοί ΑΣΕΠ (και επιβολή κυρώσεων)</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Βελτίωση διαδικασίας με</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α) κατάργηση  ανώτατου ορίου ηλικίας (συμμόρφωση με Οδηγία 2000/78/ΕΚ)</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1/2</a:t>
            </a:r>
            <a:endParaRPr b="0" lang="en-US" sz="4000" spc="-1" strike="noStrike">
              <a:solidFill>
                <a:srgbClr val="ffff99"/>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ροχή γενικής εκπαίδευση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ενδιαφερόντων μαθητώ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ξασφάλιση ίσων ευκαιριών μάθησης</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νίσχυση της πολιτιστικής και γλωσσικής ταυτότητας στο πλαίσιο μιας πολυπολιτισμικής κοινωνία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Υπαλληλική σχέση</a:t>
            </a: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Ίδρυσ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και αποδοχή (δια ορκομωσία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ΦΕΚ/Κοινοποίηση σε ενδιαφερόμενο εντός 30 ημερών/εύλογη προθεσμία για ορκ.&lt;30 ημερών/ανάληψ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Χρόνος έναρξης υπηρεσίας από ημερομηνία Δημοσίευσης ΦΕΚ</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Λήξ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Θάνατος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οδοχή παραίτηση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Έκπτωσ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όλυση (ποινή οριστικής παύσης, κατάργηση  θέσης, συμπλήρωση ορίου ηλικίας/35ετίας, ακαταλληλότητας, σωματική ή πνευματική Ανεπάρκειας)</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 Κλάδοι- Ιεραρχία</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τυπικά προσόντα (ΠΕ/ΤΕ/ΔΕ/ΥΕ)</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προαγωγική εξέλιξη (α/β/γ/δ/ε)</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Ε (από Ε σε Β) 22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ΔΕ (από Δ σε Α) 19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ΤΕ (από Δ σε Α) 15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 (από Δ σε Α) 13 έτη</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u="sng">
                <a:solidFill>
                  <a:srgbClr val="ffffff"/>
                </a:solidFill>
                <a:uFillTx/>
                <a:latin typeface="Verdana"/>
              </a:rPr>
              <a:t>Προαγωγή (χρόνος+ απόφαση υπηρεσιακού συμβουλί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ΕΞΑΙΡΟΥΝΤΑΙ -Απόφοιτοι. ΕΣΔΔ και ΕΣΤΑ (απευθείας Β)</a:t>
            </a: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άτοχοι: ΜΔΕ</a:t>
            </a:r>
            <a:r>
              <a:rPr b="0" lang="el-GR" sz="2400" spc="-1" strike="noStrike">
                <a:solidFill>
                  <a:srgbClr val="ffffff"/>
                </a:solidFill>
                <a:latin typeface="Verdana"/>
              </a:rPr>
              <a:t>/ΔΙΔ. ΔΙΠΛΩΜΑΤΟΣ- Μείωση κατά 2 έτη</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Θέσεις ευθύνης - Προϊστάμενοι</a:t>
            </a: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 συστήματα – ΚΙΝΗΤΗ (τριετία και επανάκριση) και ΠΑΓΙΑ ιεραρχία (προαγωγή)</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ία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Προιστ.Τμήματος (Α βαθμό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Προιστ. Δ/νσης (Α+1 έτος Πρ. τμήματο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ρ.Γεν.Δνσης (ΠΕ+Α+20 έτη Πρ.Δνσης)</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ιλογή από Υπηρεσιακό Συμβούλιο στο οποίο συμμετέχουν -3προιστάμενοι +2αιρετοί εκπρόσωποι εργαζομένω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Κριτήρια Επιλογής Προϊσταμένων</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ά τεχνικά προσόντα</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 </a:t>
            </a:r>
            <a:r>
              <a:rPr b="0" lang="el-GR" sz="3200" spc="-1" strike="noStrike">
                <a:solidFill>
                  <a:srgbClr val="ffffff"/>
                </a:solidFill>
                <a:latin typeface="Verdana"/>
              </a:rPr>
              <a:t>(τίτλοι σπουδών, ξένες γλώσσες,</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ποφοίτηση από Εθνικές Σχολές πχ. από Εθνικό Κέντρο Δημόσιας Διοίκη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ργασιακή και Διοικητική εμπειρία</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Λοιπές ικανότητες και δεξιότητες (υπηρεσιακή αξιολόγηση- τυχόν λοιπές δραστηριότητες)</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29" name=""/>
          <p:cNvGraphicFramePr/>
          <p:nvPr/>
        </p:nvGraphicFramePr>
        <p:xfrm>
          <a:off x="214200" y="142920"/>
          <a:ext cx="8786880" cy="6429240"/>
        </p:xfrm>
        <a:graphic>
          <a:graphicData uri="http://schemas.openxmlformats.org/drawingml/2006/table">
            <a:tbl>
              <a:tblPr/>
              <a:tblGrid>
                <a:gridCol w="2197080"/>
                <a:gridCol w="2195640"/>
                <a:gridCol w="2197080"/>
                <a:gridCol w="219708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ΚΡΙΤΗ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ΓΕΝΙΚΩΝ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ΤΜΗΜΑΤΟΣ ή ΑΥΤΟΤΕΛΟΥΣ ΓΡΑΦΕΙΟΥ</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33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Α. ΕΠΑΓΓΕΛΜΑΤΙΚΑ – ΤΕΧΝΙΚΑ ΠΡΟΣΟΝΤ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    /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1. Βασικός τίτλος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8780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2. Δεύτερος τίτλος σπουδών (εφόσον είναι της ίδιας εκπαιδευτικής βαθμίδας με το βασικό τίτλο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3. Διδακτορικό δίπλωμα σε γνωστικό αντικείμενο συναφές με το αντικείμενο της υπηρεσία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2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533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4.Διδακτορικό δίπλωμα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315800">
                <a:tc>
                  <a:txBody>
                    <a:bodyPr lIns="68760" rIns="68760" tIns="0" bIns="0" anchor="ctr">
                      <a:noAutofit/>
                    </a:bodyPr>
                    <a:p>
                      <a:pPr marL="88920" indent="-88920" algn="just">
                        <a:lnSpc>
                          <a:spcPct val="100000"/>
                        </a:lnSpc>
                        <a:tabLst>
                          <a:tab algn="l" pos="0"/>
                          <a:tab algn="ctr" pos="2743200"/>
                          <a:tab algn="r"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5. Μεταπτυχιακός τίτλος ετήσιας τουλάχιστον διάρκειας σε γνωστικό αντικείμενο συναφές με το αντικείμενο τη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6. Μεταπτυχιακός τίτλος ετήσιας τουλάχιστον διάρκειας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7. Άριστη γνώση μιας από τις γλώσσες των χωρών της Ευρωπαϊκής Ένωση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5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7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1" name=""/>
          <p:cNvGraphicFramePr/>
          <p:nvPr/>
        </p:nvGraphicFramePr>
        <p:xfrm>
          <a:off x="457200" y="214200"/>
          <a:ext cx="8229600" cy="6330960"/>
        </p:xfrm>
        <a:graphic>
          <a:graphicData uri="http://schemas.openxmlformats.org/drawingml/2006/table">
            <a:tbl>
              <a:tblPr/>
              <a:tblGrid>
                <a:gridCol w="2057400"/>
                <a:gridCol w="2057400"/>
                <a:gridCol w="2057400"/>
                <a:gridCol w="2057400"/>
              </a:tblGrid>
              <a:tr h="93672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8. Πολύ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9.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47448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0. Άριστη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6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1. Πολύ καλή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17144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2. Επιτυχής αποφοίτηση από την Εθνική Σχολή Δημόσιας Διοίκησης</a:t>
                      </a:r>
                      <a:endParaRPr b="0" lang="en-US" sz="1200" spc="-1" strike="noStrike">
                        <a:solidFill>
                          <a:srgbClr val="ffffff"/>
                        </a:solidFill>
                        <a:latin typeface="Verdana"/>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ή την Εθνική Σχολή Τοπικής Αυτοδιοίκη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2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936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3. Αποφοίτηση από τη Σχολή Εθνικής Άμυνας ή τη Σχολή Εθνικής Ασφάλει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404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4. </a:t>
                      </a:r>
                      <a:r>
                        <a:rPr b="0" lang="el-GR" sz="1200" spc="-1" strike="noStrike">
                          <a:solidFill>
                            <a:srgbClr val="663300"/>
                          </a:solidFill>
                          <a:latin typeface="Arial"/>
                          <a:ea typeface="바탕"/>
                        </a:rPr>
                        <a:t>Η πιστοποιημένη επιμόρφωση που παρέχεται από το ΕΚΔΔΑ ή από άλλες σχολές που αποδεικνύεται με αντίστοιχο πιστοποιητικό</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80 ΜΟΡΙΑ (ΑΝΑ ΗΜΕΡΑ ΕΠΙΜΟΡΦΩΣΗΣ 1 ΜΟΡΙΟ ΜΕ ΑΝΩΤΑΤΟ ΟΡΙΟ ΤΑ 8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3" name=""/>
          <p:cNvGraphicFramePr/>
          <p:nvPr/>
        </p:nvGraphicFramePr>
        <p:xfrm>
          <a:off x="457200" y="214200"/>
          <a:ext cx="8229600" cy="6356520"/>
        </p:xfrm>
        <a:graphic>
          <a:graphicData uri="http://schemas.openxmlformats.org/drawingml/2006/table">
            <a:tbl>
              <a:tblPr/>
              <a:tblGrid>
                <a:gridCol w="2057400"/>
                <a:gridCol w="2057400"/>
                <a:gridCol w="2057400"/>
                <a:gridCol w="2057400"/>
              </a:tblGrid>
              <a:tr h="10162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 </a:t>
                      </a:r>
                      <a:r>
                        <a:rPr b="1" lang="el-GR" sz="1200" spc="-1" strike="noStrike">
                          <a:solidFill>
                            <a:srgbClr val="ffffff"/>
                          </a:solidFill>
                          <a:latin typeface="Arial"/>
                          <a:ea typeface="Times New Roman"/>
                        </a:rPr>
                        <a:t>ή </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1408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Β. ΕΡΓΑΣΙΑΚΗ – ΔΙΟΙΚΗΤΙΚΗ ΕΜΠΕΙ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0162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1. Χρόνο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 ( ΓΙΑ ΚΑΘΕ ΕΤΟΣ ΥΠΗΡΕΣΙΑΣ 15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69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2. Χρόνος υπηρεσίας σε θέση προϊσταμένου Γενικής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50 ΜΟΡΙΑ ( ΓΙΑ ΚΑΘΕ ΣΥΜΠΛΗΡΩΜΕΝΟ ΜΗΝΑ 9,72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 3. Χρόνος υπηρεσίας σε θέση προϊσταμένου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50 ΜΟΡΙΑ ( ΓΙΑ ΚΑΘΕ ΣΥΜΠΛΗΡΩΜΕΝΟ ΜΗΝΑ 6,94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4. Χρόνος υπηρεσίας σε θέση προϊσταμένου Τμήματος ή αυτοτελούς Γραφεί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5" name=""/>
          <p:cNvGraphicFramePr/>
          <p:nvPr/>
        </p:nvGraphicFramePr>
        <p:xfrm>
          <a:off x="428760" y="69840"/>
          <a:ext cx="8229600" cy="6707160"/>
        </p:xfrm>
        <a:graphic>
          <a:graphicData uri="http://schemas.openxmlformats.org/drawingml/2006/table">
            <a:tbl>
              <a:tblPr/>
              <a:tblGrid>
                <a:gridCol w="2057400"/>
                <a:gridCol w="2057400"/>
                <a:gridCol w="2057400"/>
                <a:gridCol w="2057400"/>
              </a:tblGrid>
              <a:tr h="85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 ή 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18252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Γ. ΙΚΑΝΟΤΗΤΕΣ - ΔΕΞΙΟΤΗΤ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274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1.Υπηρεσιακή αξιολόγηση: Κριτήρι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Γνώση αντικειμένου υπηρεσία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Διοικητικές ικανότητε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Ενδιαφέρον και δημιουργικότητ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Υπηρεσιακές σχέσεις και συμπεριφορά</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Αποτελεσματικότητα</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Τα κριτήρια αξιολογούνται βάσει της βαθμολόγησής τους στις εκθέσεις αξιολόγησης της τελευταίας πενταετ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700 ΜΟΡΙΑ&lt;  </a:t>
                      </a:r>
                      <a:r>
                        <a:rPr b="0" i="1" lang="el-GR" sz="1200" spc="-1" strike="noStrike">
                          <a:solidFill>
                            <a:srgbClr val="663300"/>
                          </a:solidFill>
                          <a:latin typeface="Arial"/>
                          <a:ea typeface="Times New Roman"/>
                        </a:rPr>
                        <a:t>Μέσος όρος κριτηρίων επί συντελεστή βαρύτητας 14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lt;  </a:t>
                      </a:r>
                      <a:r>
                        <a:rPr b="0" i="1" lang="el-GR" sz="1200" spc="-1" strike="noStrike">
                          <a:solidFill>
                            <a:srgbClr val="663300"/>
                          </a:solidFill>
                          <a:latin typeface="Arial"/>
                          <a:ea typeface="Times New Roman"/>
                        </a:rPr>
                        <a:t>Μέσος όρος κριτηρίων επί συντελεστή βαρύτητας 9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00 ΜΟΡΙΑ&lt;  </a:t>
                      </a:r>
                      <a:r>
                        <a:rPr b="0" i="1" lang="el-GR" sz="1200" spc="-1" strike="noStrike">
                          <a:solidFill>
                            <a:srgbClr val="663300"/>
                          </a:solidFill>
                          <a:latin typeface="Arial"/>
                          <a:ea typeface="Times New Roman"/>
                        </a:rPr>
                        <a:t>Μέσος όρος κριτηρίων επί συντελεστή βαρύτητας 6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292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2. Ειδικές δραστηριότητε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Συγγραφικές εργασίες, ανακοινώσεις–εισηγήσεις σε συνέδρια, ημερίδες κτλ συναφείς με αντικείμενο της υπηρεσίας ή της δημόσιας διοίκησης γενικότερα, εκπροσώπηση σε συμβούλια, επιτροπές ή ομάδες εργασίας τόσο στο εσωτερικό όσο και στο εξωτερικό, μέλη Δ.Σ., Πρόεδροι, Διοικητές και λοιπά όργανα διοίκησης νομικών προσώπων του δημόσιου τομέ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Μονιμότητα Δημοσίων Υπαλλήλων</a:t>
            </a:r>
            <a:endParaRPr b="0" lang="en-US" sz="40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ετης δοκιμαστική υπηρεσία-  Αξιολόγηση για μονιμοποίηση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ΤΟΣ αν υπάρχει πειθαρχική ποινή/δυσμενής αξιολόγηση (από υπηρεσιακό συμβούλιο)</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ατά απόφασης μη μονιμοποίησης γίνεται προσφυγή στο ΣτΕ</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ΥΠΟΧΡΕΩΣΕΙΣ-ΔΙΚΑΙΩΜΑΤΑ-ΠΕΡΙΟΡΙΣΜΟΙ</a:t>
            </a:r>
            <a:endParaRPr b="0" lang="en-US" sz="32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1.Πίστη στο Σύνταγμα</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Υπακοή σε διαταγές ιεραρχικά προϊσταμένων με δυνατότητα έγγραφης διατύπωσης (μέσω αναφοράς) εκτέλεσης εντολής ιεραρχικά ανώτερων</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3.Εχεμύθεια σε:(απόρρητα στοιχεία, προσωπικά δεδομέν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2/2</a:t>
            </a:r>
            <a:endParaRPr b="0" lang="en-US" sz="4000" spc="-1" strike="noStrike">
              <a:solidFill>
                <a:srgbClr val="ffff99"/>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για ανάγκη προστασίας φυσικού περιβάλλοντο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σχετικά με ζητήματα των ανθρώπινων δικαιωμάτω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ωρεάν παιδεί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Επιμόρφωση Δημοσίων Υπαλλήλων</a:t>
            </a:r>
            <a:endParaRPr b="0" lang="en-US" sz="40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ϋποθέσεις</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Σύμφωνη Γνώμη Υπηρεσιακού Συμβουλίου</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2.Πλήρης δοκιμαστική υπηρεσία (λοιπός χρόνος υπηρεσίας όχι &lt;4 ετών)</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ΧΡΟΝΟΣ: ΜΠΣ(3)/Διδ.Διατρ(4)- Σύνολο ως 5</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Αποδοχές- Προσαύξηση +20%</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40% αν σε άλλο νομό/ *2 αν στο εξωτερικό)</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Μικρής διάρκειας εκπαιδευτική άδεια</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a:t>
            </a:r>
            <a:r>
              <a:rPr b="0" lang="el-GR" sz="1800" spc="-1" strike="noStrike">
                <a:solidFill>
                  <a:srgbClr val="ffffff"/>
                </a:solidFill>
                <a:latin typeface="Verdana"/>
              </a:rPr>
              <a:t>συμμετοχή σε συνέδρια, σεμινάρια, διαγωνισμούς</a:t>
            </a:r>
            <a:endParaRPr b="0" lang="en-US" sz="1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άδεια εξετάσεων για σπουδαστές/φοιτητές κάθε βαθμίδας 20 ημερών (για το έτος φοίτησης και μέχρι και τα επόμενα 2 εξάμηνα από τη λήξη του</a:t>
            </a:r>
            <a:r>
              <a:rPr b="0" lang="el-GR"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δίκαιο</a:t>
            </a: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ύνολο κανόνων ρύθμισης πειθαρχικής ευθύνης δημοσίων Υπαλλήλω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τόχοι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a:t>
            </a:r>
            <a:r>
              <a:rPr b="1" lang="el-GR" sz="2000" spc="-1" strike="noStrike">
                <a:solidFill>
                  <a:srgbClr val="ffffff"/>
                </a:solidFill>
                <a:latin typeface="Verdana"/>
              </a:rPr>
              <a:t>Διασφάλιση νόμιμης  λειτουργίας Διοίκησης</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ύρυθμη λειτουργία υπηρεσιών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γγύηση στο διωκόμενο για ορθή απονομή δικαίου</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χέση με ποινικό δίκαιο</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Πειθαρχικό παράπτωμα (όχι αδίκημ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Κοινές αρχές (τεκμηρίωση</a:t>
            </a:r>
            <a:r>
              <a:rPr b="1" lang="en-US" sz="2000" spc="-1" strike="noStrike">
                <a:solidFill>
                  <a:srgbClr val="ffffff"/>
                </a:solidFill>
                <a:latin typeface="Verdana"/>
              </a:rPr>
              <a:t> </a:t>
            </a:r>
            <a:r>
              <a:rPr b="1" lang="el-GR" sz="2000" spc="-1" strike="noStrike">
                <a:solidFill>
                  <a:srgbClr val="ffffff"/>
                </a:solidFill>
                <a:latin typeface="Verdana"/>
              </a:rPr>
              <a:t>αθωότητας, δικαστικής σιωπής, αναδρομική ισχύς, ηπιότητα νόμου, ελαφρυντικά για επιμέτρηση ποινής, έμπρακτη μετάνοια, πραγματοποιηθείσα/νομική πλάνη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παράπτωμα</a:t>
            </a: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παράβαση υπαλληλικού καθήκοντος, με πειθαρχική ευθύνη ατομική και υφιστάμενη όσο υφίσταται η υπαλληλική σχέση</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δόλος/αμέλεια</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αράβαση» – Πράξη/παράλειψη εντός/εκτός καθηκόντων</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λληλικό Καθήκον» –προσδιορίζεται από Σύνταγμα, νόμους , κανονιστικές πράξεις, εγκυκλίους, Οδηγίες (σύμφωνα με Σύνταγμα και νόμους)</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ενδεικτικά) 1/2</a:t>
            </a: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άρνηση αναγνώρισης του Συντάγματος και  έλλειψη αφοσίωσης στην Πατρίδα,</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β) παράβαση καθήκοντος κατά τον Ποινικό Κώδικα η άλλους ειδικούς ποινικούς νόμου, </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αποδοχή υλικής έννοιας ή ανταλλάγματος από πρόσωπο του οποίου τις υποθέσεις χειρίζεται η πρόκειται να χειριστεί ο υπάλληλος κατά την άσκηση των καθηκόντων του,</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δ) χαρακτηριστικώς αναξιοπρεπής η ανάξια υπαλλήλου διαγωγή εντός και εκτός υπηρεσίας,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αραβίαση απορρήτων της υπηρεσίας </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2/2</a:t>
            </a: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στ) αδικαιολόγητη αποχή από την εκτέλεση των καθηκόντων </a:t>
            </a:r>
            <a:r>
              <a:rPr b="0" i="1" lang="el-GR" sz="2000" spc="-1" strike="noStrike">
                <a:solidFill>
                  <a:srgbClr val="ffffff"/>
                </a:solidFill>
                <a:latin typeface="Verdana"/>
              </a:rPr>
              <a:t>(22 εργάσιμες ημέρες συνεχώς)</a:t>
            </a:r>
            <a:r>
              <a:rPr b="0" lang="el-GR" sz="2000" spc="-1" strike="noStrike">
                <a:solidFill>
                  <a:srgbClr val="ffffff"/>
                </a:solidFill>
                <a:latin typeface="Verdana"/>
              </a:rPr>
              <a:t>, ή τριάντα (30) εργάσιμες ημέρες εντός ενός έτους, </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ζ) άμεση η μέσω τρίτου προσώπου συμμετοχή σε δημοπρασία που ενεργεί η υπηρεσία όπου ανήκει, η επιτροπή στην οποία είναι μέλος, </a:t>
            </a: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η) η εξαιρετικώς σοβαρή απείθεια και </a:t>
            </a: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θ) η εμμονή σε άρνηση προσέλευσης σε υγειονομική επιτροπή (άρθρο 56 παρ. 8) </a:t>
            </a:r>
            <a:endParaRPr b="0" lang="en-US" sz="2000" spc="-1" strike="noStrike">
              <a:solidFill>
                <a:srgbClr val="ffffff"/>
              </a:solidFill>
              <a:latin typeface="Verdan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 αν την προηγ.3ετία επιβλήθηκαν 3 πειθαρχικές ποινές (τουλάχιστον πρόστιμο αποδοχών 1 μήνα)</a:t>
            </a:r>
            <a:endParaRPr b="0" lang="en-US" sz="2000" spc="-1" strike="noStrike">
              <a:solidFill>
                <a:srgbClr val="ffffff"/>
              </a:solidFill>
              <a:latin typeface="Verdan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α) κατά το προηγούμενο  Έτος τιμωρήθηκε για το ίδιο παράπτωμα (τουλ’αχιστον πρόστιμο αποδοχών 1μήνα)</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οινές</a:t>
            </a: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λιμάκωση ποινών</a:t>
            </a:r>
            <a:endParaRPr b="0" lang="en-US" sz="32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Επίπληξη.</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β)  Πρόστιμο μέχρι τις αποδοχές τριών (3) μηνών.</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Στέρηση δικαιώματος για προαγωγή (1 ως 5 έτη).</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δ)  Υποβιβασμός κατά ένα βαθμό.</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ροσωρινή παύση από 3 έως 6 μήνες με πλήρη στέρηση αποδοχών. </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τ) Οριστική παύση</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ά όργανα</a:t>
            </a: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ειθαρχικός Προιστάμενος (ιεραρχικά)</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Υπουργός/ΓερΓραμμΥπ/ΓΓΠεριφ/Προιστ. Γενικής Δ/νσης/Προϊστάμενος  Δ/νση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 Διοικητικά Συμβούλια (για υπαλλ ΝΠΔΔ)</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5μελές Υπηρεσιακό Συμβούλιο (μετά απ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αραπομπή από πειθαρχικό προϊστάμεν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ένσταση κατά απόφασης πειθαρχικού προϊσταμέν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4) Δευτεροβάθμιο ΥΣ για ενστάσεις κατά Υ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5) ΣτΕ (προσωρινή ή οριστική παύση/υποβιβασμός)  με δυνατότητα προσφυγής στο Διοικητικό Εφετεί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ΙΑΔΙΚΑΣΙΑ </a:t>
            </a: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καταρκτική έρευν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ιν την άσκησ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και καταγραφ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ό Πειθαρχικό Προϊστάμενο με έκβα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Θέση στο αρχείο με αιτιολογημένη έκθε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Κλήση σε απολογία (όχι ΕΔΕ)</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αραπομπή σε ανώτερο (Υ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Ένορκη Διοικητική Εξέταση</a:t>
            </a: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όχι έναρξ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ΟΝΟ από μόνιμο .υπάλληλο με  Ά βαθμό (ποτέ κατώτερο του εγκαλούμενου)</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οχρεωτικά Ανωμοτί εξέταση υπόπτου (προαιρ. Δικηγόρο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ΚΒΑΣΗ- Υποβολή αιτιολογημένης έκθεσης στον Πειθ.Προιστ(αρχείο/άσκ.πειθ.δίωξης)</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σκηση Πειθαρχικής Δίωξης</a:t>
            </a: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ιθαρχική ανάκριση από Υπηρεσιακό Συμβούλιο </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οχρεωτικά πριν την απολογία του υπαλλήλου εκτός αν: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1.τα πραγματικά περιστατικά είναι αναμφισβήτητ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Ομολογία υπαλλήλ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3.Σύλληψη επ’ αυτοφώρω</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ΕΔΕ με επαρκή στοιχεία απόδειξη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εκπαίδευσης</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Γενική Εκπαίδευση Α/ΘΜΙΑ &amp; Β/ΘΜΙΑ ( ν. 2525/1997)</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 εκπαίδευση (ν.3475/2006)</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ή εκπαίδευση (ν.3432/2996)</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ιδική εκπαίδευση ατόμων με ειδικές ανάγκες (ν.2817/200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78"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νεπιστήμια Συμβατικά</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λληνικό Ανοικτό Πανεπιστήμιο</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ΣΠΑΙΤΕ</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τρατιωτικές Σχολές ( Αξιωματικών- Υπαξιωματικώ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ές Ακαδημίες</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99"/>
              </a:solidFill>
              <a:latin typeface="Arial"/>
            </a:endParaRPr>
          </a:p>
        </p:txBody>
      </p:sp>
      <p:pic>
        <p:nvPicPr>
          <p:cNvPr id="180"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ωτοβάθμια εκπαίδευση</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5-12 έτη</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Νηπιαγωγείο υποχρεωτικό</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οτικό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υμβατικά/Ολοήμερα (εμπέδωση, νέα γνωστικά αντικείμενα, επιπρόσθετο διδακτικό υλικό, ελεύθερες διερευνητικές εργασίε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ευτεροβάθμια εκπαίδευση</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2-18 έτη ηλικίας μαθητών</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ο(3ετής φοίτηση) και Λύκειο (3ετής)</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Υποχρεωτική φοίτηση (6 Δημ+3Γυμν,&lt;16)</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Ημερήσια/εσπερινά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α- δεκτοί εργαζόμ. μαθητές &gt;14)</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τετραετούς φοίτησης)</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Γενικής κατεύθυνσης  (θεωρητική, θετική, τεχνική)</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Α  ΛΥΚΕΙΑ ( Απολυτήριο &amp; Πτυχίο)</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Σ ( ΠΤΥΧΊ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εώργιος Φραγκούλης</cp:lastModifiedBy>
  <dcterms:modified xsi:type="dcterms:W3CDTF">2023-05-01T07:07:33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