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8C9-6DCD-4976-850D-D28A45A7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95B-3EDB-4BC6-9B7F-DC8949E5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BC7-FBBD-4A68-87B7-7F429C5A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94F-417A-4D59-B950-240EDB58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377B-F337-4B3D-887A-3CE5D541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44AC-6C2C-46F9-9E08-12E34CCC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B425-8B93-4760-A61A-FF70124E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0861-490D-403B-BE13-2B497988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36A9-A9D0-42EB-9A5D-B7A943DF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B233-EE13-47A9-9711-848E230D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C40B-52B3-4CFA-B813-453002BF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76F-535F-4C27-AFE5-50E68514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C0B3-3A98-41CB-903C-275A4A71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0878-23DA-4301-8510-0780CC27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0B7E-6B1C-4F18-9721-15D95A32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55FA-A660-4F03-94BF-8A581354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97DA-D1A3-4A5D-9CE4-3C0BBCC6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6F3-16ED-4A60-B91C-45ABD014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BE5-89C7-48C6-A66C-DD130B42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1AC9-8F42-4427-9E46-BC64B99A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78D-8FF0-465A-9907-61DA75F4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0FE-156B-4590-967A-E03C0A8C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A9C-4747-4F2D-AF38-829AF78D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909-47E8-406E-A624-5375EEDE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7297-39B7-44FE-BD63-09F196BF963B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B8B8-6BD2-43E0-9389-80290A6E04D2}" type="slidenum">
              <a:rPr b="0" lang="el-GR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16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7d47d"/>
                </a:solidFill>
                <a:latin typeface="Arial"/>
              </a:rPr>
              <a:t>Ευάλωτες Κοινωνικά Ομάδες</a:t>
            </a:r>
            <a:br>
              <a:rPr sz="3200"/>
            </a:br>
            <a:r>
              <a:rPr b="0" lang="el-GR" sz="3200" spc="-1" strike="noStrike">
                <a:solidFill>
                  <a:srgbClr val="f7d47d"/>
                </a:solidFill>
                <a:latin typeface="Arial"/>
              </a:rPr>
              <a:t>Κρατούμενοι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Ιωσήφ Φραγκούλη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Περιεχόμενο εκπαιδευτικού Συμβολαίου 1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Σύμφωνα με τον Rogers (1999) το συμβόλαιο πρέπει να περιέχει τουλάχιστον τα παρακάτω στοιχεία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σε τι αναφέρεται το πρόγραμμα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ποιο είναι το θέμα του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τι θα καλύψει και σε ποιο επίπεδο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ποια είναι η μορφή του προγράμματο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Περιεχόμενο εκπαιδευτικού Συμβολαίου 2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πόσο θα διαρκέσει και ποια θα είναι η συχνότητα και η διάρκεια των συναντήσεων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τι είδους εργασίες θα απαιτηθούν στις συναντήσεις ή στη διάρκεια των συναντήσεων της ομάδας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ποιες είναι οι υποχρεώσεις τους από τη συμμετοχή τους στο πρόγραμμ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Διερεύνηση επιμορφωτικών αναγκώ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ε ερωτηματολόγιο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ε συνεντεύξει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Με προφορική επικοινωνία- συζήτησ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Χαρακτηριστικά Εγκλεισμού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Ελευθερία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Υλικών Αγαθώ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εξουαλική Στέρησ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Αυτονομία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τέρηση Ασφάλεια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Κοινωνικός Αποκλεισμός-Περιθωριοποίησ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Λόγοι που καθιστούν αναγκαία την εκπαίδευση κρατουμένων 1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Επανασύνδεση κρατουμένων με την εκπαιδευτική διαδικασία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Απόκτηση και αναβάθμιση βασικών δεξιοτήτων (δυνατότητα παραγωγής γραπτού και προφορικού λόγου, κατανόηση κειμένων, κτλ.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απόκτηση νέων βασικών δεξιοτήτων (χρήση Η/Υ, παραγωγή κειμένων, διαμόρφωση αιτήσεων, επεξεργασία εικόνας, κτλ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Λόγοι που καθιστούν αναγκαία την εκπαίδευση κρατουμένων 2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Απόκτηση κοινωνικών δεξιοτήτων (δυνατότητα επικοινωνίας και επίλυσης προβλημάτων που αφορούν στην καθημερινή ζωή, π.χ. γραπτή υποβολή αίτησης, αναζήτηση πληροφορίας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Δημιουργική αξιοποίηση ελεύθερου χρόνο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f1311"/>
                </a:solidFill>
                <a:latin typeface="Arial"/>
              </a:rPr>
              <a:t>Επαγγελματικός επαναπροσανατολισμό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93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7d47d"/>
                </a:solidFill>
                <a:latin typeface="Arial"/>
              </a:rPr>
              <a:t>Διαφορές στην εκπαίδευση των κρατουμένων σε σχέση με την εκπαίδευση του γενικού πληθυσμού 1/2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Στο γενικό πληθυσμό οι εκπαιδευόμενοι έχουν το δικαίωμα της επιλογής, του αυτοκαθορισμού και της αυτοδιάθεσης ενώ στον έγκλειστο πληθυσμό τα ίδια δικαιώματα ακυρώνοντα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f1311"/>
                </a:solidFill>
                <a:latin typeface="Arial"/>
              </a:rPr>
              <a:t>το γενικό πληθυσμό οι μαθητές έχουν πλήθος εμπειριών τις οποίες χρησιμοποιούν θέτοντας ανάλογους στόχους. Ο έγκλειστος πληθυσμός έχει συχνά αρνητικές εμπειρίες από το εκπαιδευτικό σύστημα και είναι ιδιαίτερα επιφυλακτικός απέναντι σε κάθε νέα πρόκληση εκπαιδευτικής προσπάθειας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46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7d47d"/>
                </a:solidFill>
                <a:latin typeface="Arial"/>
              </a:rPr>
              <a:t>Διαφορές στην εκπαίδευση των κρατουμένων σε σχέση με την εκπαίδευση του γενικού πληθυσμού 2/2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Στο γενικό πληθυσμό οι εκπαιδευόμενοι επιδιώκουν μέσω της παιδείας τη βελτίωσης των όρων της ζωής τους και την αντιμετώπιση των προβλημάτων τους με τον καλύτερο δυνατό τρόπο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για τους κρατούμενους πρώτιστος στόχος είναι η αποφυλάκιση και η επιβίωση στον χώρο του εγκλεισμού που γεννά πολλά δεινά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Το αίτημα για επανάκτηση της ελευθερίας, της ανεξαρτησία, της ασφάλεια και της κοινωνικής αποδοχής υπερέχει έναντι του αιτήματος για εκπαίδευση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7d47d"/>
                </a:solidFill>
                <a:latin typeface="Arial"/>
              </a:rPr>
              <a:t>Ρόλος εκπαιδευτή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Υποστηρικ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Ενθαρρυν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Διευκολυν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Κοινων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Διαμεσολαβη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υμβουλευτικό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Ενεργού ακροατή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Ενέργειες εκπαιδευτή για να είναι αποτελεσματικός στο έργο του 1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Καταρτίζει από κοινού με την ομάδα το εκπαιδευτικό συμβόλαιο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Δεν ρωτά ποτέ τα μέλη της ομάδας για τα τυχόν τελεσθέντα αδικήματα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Προσέρχεται πάντα στην ώρα του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Προετοιμάζει με συνέπεια το μάθημα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2f1311"/>
                </a:solidFill>
                <a:latin typeface="Arial"/>
              </a:rPr>
              <a:t>Δεν δίνει ούτε και παίρνει πράγματα από τα μέλη της ομάδας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7d47d"/>
                </a:solidFill>
                <a:latin typeface="Arial"/>
              </a:rPr>
              <a:t>Ενέργειες εκπαιδευτή για να είναι αποτελεσματικός στο έργο του 2/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Σέβεται τους κανόνες της φυλακής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Δεν δίνει υποσχέσεις που δεν μπορεί να τηρήσε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Αποφεύγει να φορτίσει το κλίμα και να πυροδοτήσει συγκρούσεις με το περιεχόμενο της διδασκαλίας του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f1311"/>
                </a:solidFill>
                <a:latin typeface="Arial"/>
              </a:rPr>
              <a:t>Κρατά ουδέτερη στάση σε περίπτωση σύγκρουσης στην ομάδα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Γεώργιος Φραγκούλης</cp:lastModifiedBy>
  <dcterms:modified xsi:type="dcterms:W3CDTF">2022-05-18T06:19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