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9133-6135-45C3-BD17-4E9DB485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9CD7-F6AC-47D7-8683-A1F0B44B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FDD-CF34-48C6-93CC-A0A19BF7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FAC1-21E3-4AC7-8469-1CBE04F5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57821-8F92-43EB-AE0F-DB2B7CBE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38B99-657A-4F10-87D6-CA144A6F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C2159-BCD5-4F3F-930A-FFD79E50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CB8A4-1AEC-4317-8D0D-70145B69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47E4A-CA71-4CD7-BB1A-ECEF1BC8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B36FC-0F2B-4B7C-B768-FC0EFDA9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513FD-1F40-467A-95D9-8CFC5BBA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D4A-8292-4E16-93E8-421DE880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4C2A4-5C60-4B20-AD52-9000AABB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2AAF5-312F-410F-AD7C-C28DBB9C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9D2F4-BECF-4AB7-BC8A-DAF7E037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9E7CF-06A0-4164-9250-43ABEF5E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16746-9575-4D48-BE81-E402C133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05CF-4D51-4CEF-8DE1-36B787E0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1F4C-D561-4A89-8DA4-71BDC481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244B-01FE-4F17-99CC-15DF1692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31F7-2AF2-4788-BB64-48D5B78A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8C2-9F15-4C94-B951-774A77B6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85AF-C3F1-4794-BBD8-812B8FF0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4F9-EEDE-431F-AB75-B070D4AD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0348-78B5-4625-B786-CBB68BBDCD9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10CD-AA57-4C5B-88B3-1D86553A56EC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Tahoma"/>
              </a:rPr>
              <a:t>ΠΛΑΙΣΙΟ ΔΙΕΞΑΓΩΓΗΣ ΕΠΙΚΟΙΝΩΝΙΑ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852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ΙΩΣΗΦ ΦΡΑΓΚΟΥΛΗΣ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ΚΑΘΗΓΗΤΗ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5075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ΙΚΑΝΟΤΗΤΕΣ ΠΟΥ ΧΡΕΙΑΖΟΝΤΑΙ ΣΤΗΝ ΕΠΙΚΟΙΝΩΝΙΑ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Εδραίωση της αυτοεκτίμηση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Έκφραση συναισθημάτ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Αποδοχή και κατανόηση του άλλο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Εξοικείωση με τη «γλώσσα του σώματος» και τα επίπεδα μηνυμάτ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Ενεργητική ανταλλαγή μηνυμάτ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Η εναρμόνιση μηνυμάτων – σκέψεων-συναισθημάτων -πράξε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Χαρακτηριστικά γνωρίσματα ενός ανθρώπου με αυτοεκτίμησ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Αναγνωρίζει τις ελλείψεις και τις αδυναμίες του, προσπαθεί να τις αντιμετωπίσει χωρίς να έχει αρνητικά συναισθήματα γι’ αυτέ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Εκφράζει με θάρρος τις ανάγκες και τις προσδοκίες το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Υπερασπίζεται το δίκιο του χωρίς να προσβάλλει το δίκιο των άλλω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Είναι ειλικρινής με τα συναισθήματά του, ικανός να τα εκφράσει, συνεπής σε σχέση με αυτά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Είναι ανοικτός σε νέες καταστάσει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Αποκτά συνεχώς νέες πληροφορίες, γνώσεις, ικανότητε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Κατανοεί τους άλλους, συνυπάρχει με αυτούς χωρίς να ασκεί αναίτια κριτική, χωρίς να τους εκμεταλλεύεται ή να τους μειώνει με τη συμπεριφορά του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Η βασικότερη δεξιότητα στην επικοινωνία:</a:t>
            </a:r>
            <a:br>
              <a:rPr sz="3600"/>
            </a:b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Η ΕΝΕΡΓΗΤΙΚΗ ΑΚΡΟΑΣΗ</a:t>
            </a:r>
            <a:r>
              <a:rPr b="0" lang="el-GR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Η δεξιότητα της ενεργητικής ακρόασης είναι συμπεριφορά την οποία χρησιμοποιούμε για να δείξουμε ότι </a:t>
            </a:r>
            <a:r>
              <a:rPr b="1" lang="el-GR" sz="3600" spc="-1" strike="noStrike" u="sng">
                <a:solidFill>
                  <a:srgbClr val="ffff00"/>
                </a:solidFill>
                <a:uFillTx/>
                <a:latin typeface="Comic Sans MS"/>
              </a:rPr>
              <a:t>προσέχουμε</a:t>
            </a: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 το συνομιλητή μας και όχι ότι ακούμε παθητικά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Η βασικότερη δεξιότητα στην επικοινωνία:</a:t>
            </a:r>
            <a:br>
              <a:rPr sz="3600"/>
            </a:b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Η ΕΝΕΡΓΗΤΙΚΗ  ΑΚΡΟΑΣ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Προσπαθούμε να συνθέσουμε τα λεκτικά και μη λεκτικά μηνύματα του συνομιλητή μας προκειμένου να καταλάβουμε αυτά που θέλει να μεταφέρει: δηλαδή </a:t>
            </a:r>
            <a:r>
              <a:rPr b="1" i="1" lang="el-GR" sz="3600" spc="-1" strike="noStrike" u="sng">
                <a:solidFill>
                  <a:srgbClr val="ffff00"/>
                </a:solidFill>
                <a:uFillTx/>
                <a:latin typeface="Comic Sans MS"/>
              </a:rPr>
              <a:t>τι ακριβώς εννοεί και πώς αισθάνεται</a:t>
            </a: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9933"/>
                </a:solidFill>
                <a:latin typeface="Comic Sans MS"/>
              </a:rPr>
              <a:t>Χαρακτηριστικά της ΕΝΕΡΓΗΤΙΚΗΣ  ΑΚΡΟΑΣΗ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 u="sng">
                <a:solidFill>
                  <a:srgbClr val="ffff00"/>
                </a:solidFill>
                <a:uFillTx/>
                <a:latin typeface="Comic Sans MS"/>
              </a:rPr>
              <a:t>Οπτική επαφή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Κοιτάζουμε το συνομιλητή μας στα μάτι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 u="sng">
                <a:solidFill>
                  <a:srgbClr val="ffff00"/>
                </a:solidFill>
                <a:uFillTx/>
                <a:latin typeface="Comic Sans MS"/>
              </a:rPr>
              <a:t>Σωματική γλώσσα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Στάση του σώματος σε σχέση με το συνομιλητή μα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Κινήσεις και χειρονομίε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Εκφράσεις του προσώπο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Νεύματ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Κίνηση και τοποθέτηση του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σώματος στο χώρ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9933"/>
                </a:solidFill>
                <a:latin typeface="Comic Sans MS"/>
              </a:rPr>
              <a:t>ΕΜΠΟΔΙΑ ΕΠΙΚΟΙΝΩΝΙΑ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Οι εντολές ή διαταγέ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Οι απειλέ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Παραινέσεις – ηθικολογίε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Διδασκαλί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Κριτική, κατηγορί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Χαρακτηρισμοί, ταπεινώσει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Ερμηνείες, διαγνώσει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Ανάκρισ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8:34:30Z</dcterms:created>
  <dc:creator>vzoupas</dc:creator>
  <dc:description/>
  <dc:language>en-US</dc:language>
  <cp:lastModifiedBy>Γεώργιος Φραγκούλης</cp:lastModifiedBy>
  <dcterms:modified xsi:type="dcterms:W3CDTF">2022-03-27T07:33:09Z</dcterms:modified>
  <cp:revision>6</cp:revision>
  <dc:subject/>
  <dc:title>ΙΚΑΝΟΤΗΤΕΣ ΠΟΥ ΧΡΕΙΑΖΟΝΤΑΙ ΣΤΗΝ ΕΠΙΚΟΙΝΩΝΙΑ</dc:title>
</cp:coreProperties>
</file>