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28C-E82F-44D8-AEC7-3F8ECB01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0FE-7A48-4A29-A90C-0CE5BD3E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895-94D8-44D4-9888-A6B8A717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500-81FA-4A37-8949-88205433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D74-84AC-4C0F-9044-09500363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66FB-0548-4A97-B990-44C7F6E3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2A9F-B561-40F6-8AAF-F6B61F78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1394-A8F6-46D3-81EA-FCBCA19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5CE1-453B-418F-B416-C42E2F30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9AFA-FB3F-4743-822A-30C875F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6220-D81D-421A-99B6-275D1F4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E5F-6F4C-43D5-AC64-4AE5D81A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DAF6-9506-4E05-9040-2872275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A32B-AE9B-4DC7-92D3-E768D56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9A46-2D24-408F-AC7B-51ABAE83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468F-EBDA-4333-BE4D-6CF334FE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6F7C-809C-4FFF-AA40-BE14F103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413-5A2D-4157-81B6-F5B1B40F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A7A-DD8A-4755-B668-CC37C062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829-453D-4083-9AE0-B1E74889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08D-DC98-4544-813B-4BFEEB58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C25-01C4-443C-9F9C-18861A8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2D3-667B-4912-AB11-1E890F1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801-60EB-418A-A530-6E6111C8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CC04-50EE-4C27-AA90-B3CC738060D4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F7B7-2C60-41F5-85B9-389D30F853D8}" type="slidenum">
              <a:rPr b="0" lang="el-G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Ευάλωτες Κοινωνικά Ομάδες</a:t>
            </a:r>
            <a:br>
              <a:rPr sz="3200"/>
            </a:b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Κρατούμενο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Ιωσήφ Φραγκούλη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ύμφωνα με τον Rogers (1999) το συμβόλαιο πρέπει να περιέχει τουλάχιστον τα παρακάτω στοιχεία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ε τι αναφέρεται το πρόγραμμα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ο είναι το θέμα το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ι θα καλύψει και σε ποιο επίπεδο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α είναι η μορφή του προγράμματο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όσο θα διαρκέσει και ποια θα είναι η συχνότητα και η διάρκεια των συναντήσεω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τι είδους εργασίες θα απαιτηθούν στις συναντήσεις ή στη διάρκεια των συναντήσεων της ομάδα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οιες είναι οι υποχρεώσεις τους από τη συμμετοχή τους στο πρόγραμμ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Διερεύνηση επιμορφωτικών αναγκώ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ερωτηματολόγιο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συνεντεύξει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προφορική επικοινωνία- συζήτ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Χαρακτηριστικά Εγκλεισμο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Ελευθερ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Υλικών Αγαθώ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εξουαλική Στέρ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υτονομ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σφάλει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 Αποκλεισμός-Περιθωριοποί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νασύνδεση κρατουμένων με την εκπαιδευτική διαδικασί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αι αναβάθμιση βασικών δεξιοτήτων (δυνατότητα παραγωγής γραπτού και προφορικού λόγου, κατανόηση κειμένων, κτλ.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νέων βασικών δεξιοτήτων (χρήση Η/Υ, παραγωγή κειμένων, διαμόρφωση αιτήσεων, επεξεργασία εικόνας, κτλ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οινωνικών δεξιοτήτων (δυνατότητα επικοινωνίας και επίλυσης προβλημάτων που αφορούν στην καθημερινή ζωή, π.χ. γραπτή υποβολή αίτησης, αναζήτηση πληροφορίας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Δημιουργική αξιοποίηση ελεύθερου χρόνο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γγελματικός επαναπροσανατολισμό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93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1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έχουν το δικαίωμα της επιλογής, του αυτοκαθορισμού και της αυτοδιάθεσης ενώ στον έγκλειστο πληθυσμό τα ίδια δικαιώματα ακυρώνοντα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ο γενικό πληθυσμό οι μαθητές έχουν πλήθος εμπειριών τις οποίες χρησιμοποιούν θέτοντας ανάλογους στόχους. Ο έγκλειστος πληθυσμός έχει συχνά αρνητικές εμπειρίες από το εκπαιδευτικό σύστημα και είναι ιδιαίτερα επιφυλακτικός απέναντι σε κάθε νέα πρόκληση εκπαιδευτικής προσπάθεια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2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επιδιώκουν μέσω της παιδείας τη βελτίωσης των όρων της ζωής τους και την αντιμετώπιση των προβλημάτων τους με τον καλύτερο δυνατό τρόπο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για τους κρατούμενους πρώτιστος στόχος είναι η αποφυλάκιση και η επιβίωση στον χώρο του εγκλεισμού που γεννά πολλά δεινά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Το αίτημα για επανάκτηση της ελευθερίας, της ανεξαρτησία, της ασφάλεια και της κοινωνικής αποδοχής υπερέχει έναντι του αιτήματος για εκπαίδευση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Ρόλος εκπαιδευτή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Υποστηρικ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θαρρ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ευκολ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αμεσολαβη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υμβουλευ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εργού ακροατή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Καταρτίζει από κοινού με την ομάδα το εκπαιδευτικό συμβόλαιο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ρωτά ποτέ τα μέλη της ομάδας για τα τυχόν τελεσθέντα αδικήματ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σέρχεται πάντα στην ώρα το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ετοιμάζει με συνέπεια το μάθημ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δίνει ούτε και παίρνει πράγματα από τα μέλη της ομάδα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έβεται τους κανόνες της φυλακή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εν δίνει υποσχέσεις που δεν μπορεί να τηρήσε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Αποφεύγει να φορτίσει το κλίμα και να πυροδοτήσει συγκρούσεις με το περιεχόμενο της διδασκαλίας το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ρατά ουδέτερη στάση σε περίπτωση σύγκρουσης στην ομάδα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Γεώργιος Φραγκούλης</cp:lastModifiedBy>
  <dcterms:modified xsi:type="dcterms:W3CDTF">2022-05-18T06:19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