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58C-C5CA-4D7D-87F5-90C5267C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AE2-0C0A-4715-B6AF-36917521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526-533E-4963-AE5E-3CDC51E7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712-2817-46A1-BC8C-35E963EC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22B93-52EC-4390-B608-22763AB2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8D399-4964-4888-B5C9-B545F0E5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198C8-8768-4D1F-A263-5BD25E6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45C5B-A0F7-43A8-8920-E3430738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9650-A6C7-487B-8C43-6EA36C56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818CE-8AA9-48C0-88CB-1039CC4D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0BDEE-958D-42C5-BB1A-E5A5815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99C-1606-4497-9DDD-0D646C95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B1799-7B12-46B6-BCA9-48C44FC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9B3FD-9A76-4595-A025-4EA2B808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E065D-3803-4572-A946-178CDC4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49D60-D9CD-4975-97BA-593480B2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FBA37-AB17-4897-B847-B8911365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307-B412-4B23-B362-77D4B6BC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4DF-7066-43D4-891C-DCB6D04D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FE3-E26D-46C7-90D5-6D1A5434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DF8-A033-45F4-BF70-2EA6A29A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B25-4C40-4F62-A5F3-8EC08EA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E96-6DD3-4016-B258-73E207B9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82F-BC1E-4EEC-9537-34B4630D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4666-8475-496D-AFBB-35B650D367A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22D9-5943-4835-BF0A-D5D7490A5AA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ahoma"/>
              </a:rPr>
              <a:t>ΠΛΑΙΣΙΟ ΔΙΕΞΑΓΩΓΗΣ ΕΠΙΚΟΙΝΩΝΙΑ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8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ΙΩΣΗΦ ΦΡΑΓΚΟΥΛΗΣ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ΘΗΓΗΤΗ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07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ΙΚΑΝΟΤΗΤΕΣ ΠΟΥ ΧΡΕΙΑΖΟΝΤΑΙ ΣΤΗΝ ΕΠΙΚΟΙΝΩΝΙ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δραίωση της αυτοεκτίμη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Έκφραση συναισθη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Αποδοχή και κατανόηση του άλλ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ξοικείωση με τη «γλώσσα του σώματος» και τα επίπεδα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νεργητική ανταλλαγή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εναρμόνιση μηνυμάτων – σκέψεων-συναισθημάτων -πράξε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Χαρακτηριστικά γνωρίσματα ενός ανθρώπου με αυτοεκτίμη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ναγνωρίζει τις ελλείψεις και τις αδυναμίες του, προσπαθεί να τις αντιμετωπίσει χωρίς να έχει αρνητικά συναισθήματα γι’ αυτέ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κφράζει με θάρρος τις ανάγκες και τις προσδοκίες τ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Υπερασπίζεται το δίκιο του χωρίς να προσβάλλει το δίκιο των άλλω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ειλικρινής με τα συναισθήματά του, ικανός να τα εκφράσει, συνεπής σε σχέση με αυτ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ανοικτός σε νέες καταστάσει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ποκτά συνεχώς νέες πληροφορίες, γνώσεις, ικανότητε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Κατανοεί τους άλλους, συνυπάρχει με αυτούς χωρίς να ασκεί αναίτια κριτική, χωρίς να τους εκμεταλλεύεται ή να τους μειώνει με τη συμπεριφορά το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ΑΚΡΟΑΣΗ</a:t>
            </a: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δεξιότητα της ενεργητικής ακρόασης είναι συμπεριφορά την οποία χρησιμοποιούμε για να δείξουμε ότι </a:t>
            </a:r>
            <a:r>
              <a:rPr b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προσέχουμε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το συνομιλητή μας και όχι ότι ακούμε παθητικ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 ΑΚΡΟΑ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Προσπαθούμε να συνθέσουμε τα λεκτικά και μη λεκτικά μηνύματα του συνομιλητή μας προκειμένου να καταλάβουμε αυτά που θέλει να μεταφέρει: δηλαδή </a:t>
            </a:r>
            <a:r>
              <a:rPr b="1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τι ακριβώς εννοεί και πώς αισθάνεται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Χαρακτηριστικά της ΕΝΕΡΓΗΤΙΚΗΣ  ΑΚΡΟΑΣΗ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Οπτική επαφ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οιτάζουμε το συνομιλητή μας στα μάτι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Σωματική γλώσσ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τάση του σώματος σε σχέση με το συνομιλητή μ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ινήσεις και χειρονομ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Εκφράσεις του προσώπο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Νεύμα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ίνηση και τοποθέτηση του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ώματος στο χώρ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ΕΜΠΟΔΙΑ ΕΠΙΚΟΙΝΩΝΙΑ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εντολές ή διαταγ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απειλ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Παραινέσεις – ηθικολογ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Διδασκαλ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Κριτική, κατηγορ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Χαρακτηρισμοί, ταπει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Ερμηνείες, διαγ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Ανάκρισ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8:34:30Z</dcterms:created>
  <dc:creator>vzoupas</dc:creator>
  <dc:description/>
  <dc:language>en-US</dc:language>
  <cp:lastModifiedBy>Γεώργιος Φραγκούλης</cp:lastModifiedBy>
  <dcterms:modified xsi:type="dcterms:W3CDTF">2022-03-27T07:33:09Z</dcterms:modified>
  <cp:revision>6</cp:revision>
  <dc:subject/>
  <dc:title>ΙΚΑΝΟΤΗΤΕΣ ΠΟΥ ΧΡΕΙΑΖΟΝΤΑΙ ΣΤΗΝ ΕΠΙΚΟΙΝΩΝΙΑ</dc:title>
</cp:coreProperties>
</file>